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3.xml" ContentType="application/vnd.openxmlformats-officedocument.presentationml.comments+xml"/>
  <Override PartName="/ppt/comments/comment8.xml" ContentType="application/vnd.openxmlformats-officedocument.presentationml.comments+xml"/>
  <Override PartName="/ppt/comments/comment15.xml" ContentType="application/vnd.openxmlformats-officedocument.presentationml.comments+xml"/>
  <Override PartName="/ppt/comments/comment11.xml" ContentType="application/vnd.openxmlformats-officedocument.presentationml.comments+xml"/>
  <Override PartName="/ppt/comments/comment18.xml" ContentType="application/vnd.openxmlformats-officedocument.presentationml.comments+xml"/>
  <Override PartName="/ppt/comments/comment20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772275" cy="9902825"/>
</p:presentation>
</file>

<file path=ppt/commentAuthors.xml><?xml version="1.0" encoding="utf-8"?>
<p:cmAuthorLst xmlns:p="http://schemas.openxmlformats.org/presentationml/2006/main">
  <p:cmAuthor id="0" name="grisse" initials="g" lastIdx="6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<Relationship Id="rId28" Type="http://schemas.openxmlformats.org/officeDocument/2006/relationships/commentAuthors" Target="commentAuthors.xml"/>
</Relationships>
</file>

<file path=ppt/comments/comment11.xml><?xml version="1.0" encoding="utf-8"?>
<p:cmLst xmlns:p="http://schemas.openxmlformats.org/presentationml/2006/main">
  <p:cm authorId="0" dt="2003-06-02T16:12:38.817000000" idx="3">
    <p:pos x="10" y="10"/>
    <p:text>opp 288</p:text>
  </p:cm>
</p:cmLst>
</file>

<file path=ppt/comments/comment15.xml><?xml version="1.0" encoding="utf-8"?>
<p:cmLst xmlns:p="http://schemas.openxmlformats.org/presentationml/2006/main">
  <p:cm authorId="0" dt="2003-06-02T16:13:04.214000000" idx="4">
    <p:pos x="10" y="10"/>
    <p:text>opp 269</p:text>
  </p:cm>
</p:cmLst>
</file>

<file path=ppt/comments/comment18.xml><?xml version="1.0" encoding="utf-8"?>
<p:cmLst xmlns:p="http://schemas.openxmlformats.org/presentationml/2006/main">
  <p:cm authorId="0" dt="2003-06-02T16:14:15.386000000" idx="5">
    <p:pos x="10" y="10"/>
    <p:text>opp 269</p:text>
  </p:cm>
</p:cmLst>
</file>

<file path=ppt/comments/comment20.xml><?xml version="1.0" encoding="utf-8"?>
<p:cmLst xmlns:p="http://schemas.openxmlformats.org/presentationml/2006/main">
  <p:cm authorId="0" dt="2003-06-02T16:14:27.263000000" idx="6">
    <p:pos x="10" y="10"/>
    <p:text>opp 274</p:text>
  </p:cm>
</p:cmLst>
</file>

<file path=ppt/comments/comment3.xml><?xml version="1.0" encoding="utf-8"?>
<p:cmLst xmlns:p="http://schemas.openxmlformats.org/presentationml/2006/main">
  <p:cm authorId="0" dt="2003-06-02T16:10:12.657000000" idx="1">
    <p:pos x="10" y="10"/>
    <p:text>opp 281</p:text>
  </p:cm>
</p:cmLst>
</file>

<file path=ppt/comments/comment8.xml><?xml version="1.0" encoding="utf-8"?>
<p:cmLst xmlns:p="http://schemas.openxmlformats.org/presentationml/2006/main">
  <p:cm authorId="0" dt="2003-06-02T16:10:33.958000000" idx="2">
    <p:pos x="10" y="10"/>
    <p:text>opp 287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E158A-FB93-4BC3-A12C-8379BBF1E1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534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3729960"/>
            <a:ext cx="8534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BB586-206B-457B-96F3-53AF14DAAC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164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01880" y="1143000"/>
            <a:ext cx="4164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3729960"/>
            <a:ext cx="4164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01880" y="3729960"/>
            <a:ext cx="4164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8B15B-2910-47A1-8C96-1C371C7D6D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14000" y="114300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9400" y="114300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372996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14000" y="372996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9400" y="372996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8AB8B-0114-4C98-856C-41C7E3DCB3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28240" y="11430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1648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01880" y="1143000"/>
            <a:ext cx="41648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28240" y="304560"/>
            <a:ext cx="5257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164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01880" y="1143000"/>
            <a:ext cx="41648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28240" y="3729960"/>
            <a:ext cx="4164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11430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37FF9-B257-461F-80CA-5F19EDDE9C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1648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01880" y="1143000"/>
            <a:ext cx="4164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01880" y="3729960"/>
            <a:ext cx="4164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164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01880" y="1143000"/>
            <a:ext cx="4164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28240" y="3729960"/>
            <a:ext cx="8534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534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28240" y="3729960"/>
            <a:ext cx="8534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164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01880" y="1143000"/>
            <a:ext cx="4164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240" y="3729960"/>
            <a:ext cx="4164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01880" y="3729960"/>
            <a:ext cx="4164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14000" y="114300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99400" y="114300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228240" y="372996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14000" y="372996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99400" y="372996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A0C1D-4074-4C54-84D2-3AC210B516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1648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01880" y="1143000"/>
            <a:ext cx="41648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FDEF9-C11B-442B-87DE-1D9C8D4EF2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FDC98-9003-4BD0-86C3-B9256C46FD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" y="304560"/>
            <a:ext cx="5257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FC526-F3AC-49AA-A32E-DCBF59AC4F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164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1880" y="1143000"/>
            <a:ext cx="41648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3729960"/>
            <a:ext cx="4164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7B259-477B-4867-8CCC-3FC4210399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1648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1880" y="1143000"/>
            <a:ext cx="4164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01880" y="3729960"/>
            <a:ext cx="4164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FBE95-9C1A-40B2-B2BD-5451C90EC8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164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1880" y="1143000"/>
            <a:ext cx="4164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3729960"/>
            <a:ext cx="8534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6E40E-8362-4FAC-ADC3-7EC80A8087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1430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 3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2040" indent="-228600">
              <a:spcBef>
                <a:spcPts val="799"/>
              </a:spcBef>
              <a:buClr>
                <a:srgbClr val="ffffff"/>
              </a:buClr>
              <a:buFont typeface="Wingdings 3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81080" indent="-228600">
              <a:spcBef>
                <a:spcPts val="799"/>
              </a:spcBef>
              <a:buClr>
                <a:srgbClr val="ffffff"/>
              </a:buClr>
              <a:buFont typeface="Wingdings 3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81080" indent="-228600">
              <a:spcBef>
                <a:spcPts val="799"/>
              </a:spcBef>
              <a:buClr>
                <a:srgbClr val="000000"/>
              </a:buClr>
              <a:buFont typeface="Wingdings 3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81080" indent="-228600">
              <a:spcBef>
                <a:spcPts val="799"/>
              </a:spcBef>
              <a:buClr>
                <a:srgbClr val="000000"/>
              </a:buClr>
              <a:buFont typeface="Wingdings 3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228240" y="6400440"/>
            <a:ext cx="609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903D1-353F-4D7E-B7C2-9BE5C4BAA36D}" type="slidenum">
              <a:rPr b="1" lang="en-US" sz="1400" spc="-1" strike="noStrike">
                <a:solidFill>
                  <a:srgbClr val="c0c0c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15040" y="6400800"/>
            <a:ext cx="42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c0c0c0"/>
                </a:solidFill>
                <a:latin typeface="Arial"/>
              </a:rPr>
              <a:t>Ralph-Erich Hildebrandt · Diff Informatik 9 ·12/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1143000"/>
            <a:ext cx="800100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2"/>
          </p:nvPr>
        </p:nvSpPr>
        <p:spPr>
          <a:xfrm>
            <a:off x="1447560" y="6248520"/>
            <a:ext cx="7467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Wingdings 3" charset="2"/>
              <a:buChar char="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33440" algn="ctr">
              <a:spcBef>
                <a:spcPts val="499"/>
              </a:spcBef>
              <a:buClr>
                <a:srgbClr val="ffffff"/>
              </a:buClr>
              <a:buFont typeface="Wingdings 3" charset="2"/>
              <a:buChar char="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752480" algn="ctr">
              <a:spcBef>
                <a:spcPts val="499"/>
              </a:spcBef>
              <a:buClr>
                <a:srgbClr val="ffffff"/>
              </a:buClr>
              <a:buFont typeface="Wingdings 3" charset="2"/>
              <a:buChar char="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752480">
              <a:spcBef>
                <a:spcPts val="499"/>
              </a:spcBef>
              <a:buClr>
                <a:srgbClr val="000000"/>
              </a:buClr>
              <a:buFont typeface="Wingdings 3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752480">
              <a:spcBef>
                <a:spcPts val="499"/>
              </a:spcBef>
              <a:buClr>
                <a:srgbClr val="000000"/>
              </a:buClr>
              <a:buFont typeface="Wingdings 3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Viren, Würmer, Trojaner &amp; Co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0" y="2743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Differenzierungskurs Informatik 9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von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Ralph-Erich Hildebrand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429000" y="3962520"/>
            <a:ext cx="223992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691920"/>
            <a:ext cx="592776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Nicht-überschreibende Programmvi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00568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Virus setzt sich ans Ende und und setzt am Beginn nur einen Sprungbefeh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187280" y="3357720"/>
            <a:ext cx="6337440" cy="1223280"/>
            <a:chOff x="1187280" y="3357720"/>
            <a:chExt cx="6337440" cy="1223280"/>
          </a:xfrm>
        </p:grpSpPr>
        <p:sp>
          <p:nvSpPr>
            <p:cNvPr id="128" name=""/>
            <p:cNvSpPr/>
            <p:nvPr/>
          </p:nvSpPr>
          <p:spPr>
            <a:xfrm>
              <a:off x="1187280" y="3357720"/>
              <a:ext cx="633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Sprungbefehl verweist auf Viru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1332000" y="4005360"/>
              <a:ext cx="6184440" cy="575640"/>
              <a:chOff x="1332000" y="4005360"/>
              <a:chExt cx="6184440" cy="575640"/>
            </a:xfrm>
          </p:grpSpPr>
          <p:sp>
            <p:nvSpPr>
              <p:cNvPr id="130" name=""/>
              <p:cNvSpPr/>
              <p:nvPr/>
            </p:nvSpPr>
            <p:spPr>
              <a:xfrm>
                <a:off x="6191280" y="4005360"/>
                <a:ext cx="1325160" cy="575640"/>
              </a:xfrm>
              <a:prstGeom prst="rect">
                <a:avLst/>
              </a:prstGeom>
              <a:solidFill>
                <a:srgbClr val="ff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833920" y="4005360"/>
                <a:ext cx="3357360" cy="575640"/>
              </a:xfrm>
              <a:prstGeom prst="rect">
                <a:avLst/>
              </a:prstGeom>
              <a:solidFill>
                <a:srgbClr val="c0c0c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159080" y="4005360"/>
                <a:ext cx="52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508400" y="4005360"/>
                <a:ext cx="1325160" cy="575640"/>
              </a:xfrm>
              <a:prstGeom prst="rect">
                <a:avLst/>
              </a:prstGeom>
              <a:solidFill>
                <a:srgbClr val="c0c0c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861920" y="4005360"/>
                <a:ext cx="52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332000" y="4005360"/>
                <a:ext cx="176400" cy="575640"/>
              </a:xfrm>
              <a:prstGeom prst="rect">
                <a:avLst/>
              </a:prstGeom>
              <a:solidFill>
                <a:srgbClr val="ff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624960"/>
            <a:ext cx="5257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Virenart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inteilung in drei Grup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b2b2b2"/>
                </a:solidFill>
                <a:latin typeface="Arial"/>
              </a:rPr>
              <a:t>1.</a:t>
            </a:r>
            <a:r>
              <a:rPr b="1" lang="de-AT" sz="3200" spc="-1" strike="noStrike">
                <a:solidFill>
                  <a:srgbClr val="ffffff"/>
                </a:solidFill>
                <a:latin typeface="Arial"/>
              </a:rPr>
              <a:t> Multipartite Vi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 3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Arial"/>
              </a:rPr>
              <a:t>Können verschiedene Plattformen und verschiedene Typen von Komponenten infizie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 3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Arial"/>
              </a:rPr>
              <a:t>Nicht strikt in System- oder Programmviren unterteilb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 3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Arial"/>
              </a:rPr>
              <a:t>Können Programm- und Treiberdateien infizie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624960"/>
            <a:ext cx="5257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Virenart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001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b2b2b2"/>
                </a:solidFill>
                <a:latin typeface="Arial"/>
              </a:rPr>
              <a:t>2.</a:t>
            </a:r>
            <a:r>
              <a:rPr b="1" lang="de-AT" sz="3200" spc="-1" strike="noStrike">
                <a:solidFill>
                  <a:srgbClr val="ffffff"/>
                </a:solidFill>
                <a:latin typeface="Arial"/>
              </a:rPr>
              <a:t> Polymorphe Vi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Wingdings 3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Arial"/>
              </a:rPr>
              <a:t>Tarnen sich vor Antivirenprogrammen durch Verändern des äußeren Erscheinungsbil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Wingdings 3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Arial"/>
              </a:rPr>
              <a:t>Setzen Chiffrierfunktionen ein, um Suche nach Erkennungsmarken zu erschweren</a:t>
            </a: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240" y="624960"/>
            <a:ext cx="5257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Virenart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b2b2b2"/>
                </a:solidFill>
                <a:latin typeface="Arial"/>
              </a:rPr>
              <a:t>3.</a:t>
            </a:r>
            <a:r>
              <a:rPr b="1" lang="de-AT" sz="3200" spc="-1" strike="noStrike">
                <a:solidFill>
                  <a:srgbClr val="ffffff"/>
                </a:solidFill>
                <a:latin typeface="Arial"/>
              </a:rPr>
              <a:t> Tarnkappen oder Stealth-Vi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 3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Arial"/>
              </a:rPr>
              <a:t>Tarnen sich durch Änderung der Dateiattribu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 3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Arial"/>
              </a:rPr>
              <a:t>z.B. Länge oder Erstellungsdat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 3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Arial"/>
              </a:rPr>
              <a:t>Oder infizieren „On the fly“   (Auswirkungen des Virus treten sofort auf und nicht erst zu einem bestimmten Datum o.ä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240" y="624960"/>
            <a:ext cx="5257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fffff"/>
                </a:solidFill>
                <a:latin typeface="Arial"/>
              </a:rPr>
              <a:t>Angriffe durch Softwa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74640" y="1699920"/>
            <a:ext cx="5492880" cy="31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Vi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Trojanische Pfer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Back Do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Würm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ffff"/>
                </a:solidFill>
                <a:latin typeface="Arial"/>
              </a:rPr>
              <a:t>Hoax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240" y="624960"/>
            <a:ext cx="5257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Trojan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189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Infiziertes Programm erbringt spezifizierte Leist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Zudem hat er noch unzulässige, vom Manipulierer beabsichtigte und nicht dokumentierte Nebenwirkun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200560" y="2168640"/>
            <a:ext cx="293544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240" y="624960"/>
            <a:ext cx="5257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Trojan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rkennung ist schwieri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Wird verwendet, um z.B. Zugangsberechtigungen zu ermitte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Können sich nicht selber ausbreiten oder reproduzi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240" y="624960"/>
            <a:ext cx="5257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fffff"/>
                </a:solidFill>
                <a:latin typeface="Arial"/>
              </a:rPr>
              <a:t>Angriffe durch Softwa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74640" y="1699920"/>
            <a:ext cx="5492880" cy="31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Vi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Trojanische Pfer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Back Do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ffff"/>
                </a:solidFill>
                <a:latin typeface="Arial"/>
              </a:rPr>
              <a:t>Würm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ffff"/>
                </a:solidFill>
                <a:latin typeface="Arial"/>
              </a:rPr>
              <a:t>Hoax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240" y="624960"/>
            <a:ext cx="5257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Back Doo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375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Back Doors sin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in geheimer, nicht authorisierter Zugang zu einem IT-System oder Softwaremodu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erden eingesetzt für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 3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Umgehung der Benutzeridentifik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 3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Umgehung der Authentifizieru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 3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Umgehung der Authorisieru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Arial"/>
              </a:rPr>
              <a:t>Hintertüren werden häufig von Entwicklern für Testphase benutzt, aber oft vergessen zu entfern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300720" y="2655720"/>
            <a:ext cx="2664000" cy="20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624960"/>
            <a:ext cx="5257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fffff"/>
                </a:solidFill>
                <a:latin typeface="Arial"/>
              </a:rPr>
              <a:t>Angriffe durch Softwa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74640" y="1699920"/>
            <a:ext cx="5492880" cy="31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Vi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Trojanische Pfer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Back Do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fffff"/>
                </a:solidFill>
                <a:latin typeface="Arial"/>
              </a:rPr>
              <a:t>Würm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ffff"/>
                </a:solidFill>
                <a:latin typeface="Arial"/>
              </a:rPr>
              <a:t>Hoax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240" y="624960"/>
            <a:ext cx="5257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fffff"/>
                </a:solidFill>
                <a:latin typeface="Arial"/>
              </a:rPr>
              <a:t>Angriffe durch Softwa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74640" y="1699920"/>
            <a:ext cx="5492880" cy="31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Vi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Trojanische Pfer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Back Do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Würm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ffff"/>
                </a:solidFill>
                <a:latin typeface="Arial"/>
              </a:rPr>
              <a:t>Hoax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624960"/>
            <a:ext cx="5257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Würm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22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in Wurm is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 3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in lauffähiges 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 3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Kommuniziert mit anderen System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 3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Vervielfältigt sich selbständig in Netzwer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 3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ist zusammengesetzt aus zusammengehörigen Wurmsegmen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 3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benötigt für die Ausführung kein Wirt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720960" y="4921200"/>
            <a:ext cx="128268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240" y="624960"/>
            <a:ext cx="5257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fffff"/>
                </a:solidFill>
                <a:latin typeface="Arial"/>
              </a:rPr>
              <a:t>Angriffe durch Softwa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74640" y="1699920"/>
            <a:ext cx="5492880" cy="31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Vi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Trojanische Pfer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Back Do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ffff"/>
                </a:solidFill>
                <a:latin typeface="Arial"/>
              </a:rPr>
              <a:t>Würm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fffff"/>
                </a:solidFill>
                <a:latin typeface="Arial"/>
              </a:rPr>
              <a:t>Hoax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240" y="624960"/>
            <a:ext cx="5257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fffff"/>
                </a:solidFill>
                <a:latin typeface="Arial"/>
              </a:rPr>
              <a:t>Hoax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375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Arial"/>
              </a:rPr>
              <a:t>Hoax bedeutet übersetzt „Scherz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Arial"/>
              </a:rPr>
              <a:t>Keine direkte Bedrohung aus dem C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Arial"/>
              </a:rPr>
              <a:t>User wird aufgefordert etwas zu tu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 3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Alle im Adressbuch über etwas zu informie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 3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Datei, die Virus enthält lösch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 3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Arial"/>
              </a:rPr>
              <a:t>Vor allem im Umfeld unerfahrener User gefährli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651640" y="4581360"/>
            <a:ext cx="22669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240" y="624960"/>
            <a:ext cx="5257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Softwarebedrohung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50920" y="1916280"/>
          <a:ext cx="8640720" cy="3601800"/>
        </p:xfrm>
        <a:graphic>
          <a:graphicData uri="http://schemas.openxmlformats.org/drawingml/2006/table">
            <a:tbl>
              <a:tblPr/>
              <a:tblGrid>
                <a:gridCol w="3456000"/>
                <a:gridCol w="2663640"/>
                <a:gridCol w="2521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pliziert sich sel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aucht einen Wi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58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r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u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ürm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ck Doo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ojanische Pfer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i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i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624960"/>
            <a:ext cx="5257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fffff"/>
                </a:solidFill>
                <a:latin typeface="Arial"/>
              </a:rPr>
              <a:t>Vir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300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Arial"/>
              </a:rPr>
              <a:t>Virus ist ein sich selbst reproduzierender Auto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Arial"/>
              </a:rPr>
              <a:t>Bei Ausführung werden Kopien von sich selbst erzeug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Arial"/>
              </a:rPr>
              <a:t>Für die Ausführung wird Hostprogramm benötig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Arial"/>
              </a:rPr>
              <a:t>Aufruf durch Wirtprogram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Arial"/>
              </a:rPr>
              <a:t>Besteht aus Fortpflanzungsteil und Wirkungste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Arial"/>
              </a:rPr>
              <a:t>Schädigungen können transient oder permanent se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164360" y="5084640"/>
            <a:ext cx="187164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292720" y="4411800"/>
            <a:ext cx="3851280" cy="24462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624960"/>
            <a:ext cx="5257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fffff"/>
                </a:solidFill>
                <a:latin typeface="Arial"/>
              </a:rPr>
              <a:t>Vir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ffff"/>
                </a:solidFill>
                <a:latin typeface="Arial"/>
              </a:rPr>
              <a:t>Transiente Schädig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 3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ffff"/>
                </a:solidFill>
                <a:latin typeface="Arial"/>
              </a:rPr>
              <a:t>System wird nicht beeinträchtig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 3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ffff"/>
                </a:solidFill>
                <a:latin typeface="Arial"/>
              </a:rPr>
              <a:t>Benutzer wird durch verschiedene Aktionen des Virus gestört  </a:t>
            </a:r>
            <a:r>
              <a:rPr b="0" lang="de-AT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AT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AT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0" lang="de-AT" sz="3200" spc="-1" strike="noStrike">
                <a:solidFill>
                  <a:srgbClr val="ffffff"/>
                </a:solidFill>
                <a:latin typeface="Arial"/>
              </a:rPr>
              <a:t>z.B. jeden Tag um fünf Uhr erscheint eine Meldung oder Buchstaben fallen wie Laub herun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940360" y="4508640"/>
            <a:ext cx="1944720" cy="115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624960"/>
            <a:ext cx="5257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fffff"/>
                </a:solidFill>
                <a:latin typeface="Arial"/>
              </a:rPr>
              <a:t>Vir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ffff"/>
                </a:solidFill>
                <a:latin typeface="Arial"/>
              </a:rPr>
              <a:t>Permanente Schädig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 3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ffff"/>
                </a:solidFill>
                <a:latin typeface="Arial"/>
              </a:rPr>
              <a:t>Kann Hardware und Software beschädi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 3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ffff"/>
                </a:solidFill>
                <a:latin typeface="Arial"/>
              </a:rPr>
              <a:t>Kann Daten löschen, überschreiben, verändern, Dateizuordnungstabellen zerstören,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624960"/>
            <a:ext cx="5257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Systemvir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Infizieren von durch Systemsoftware belegten Speicherbereich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ie kopieren sich meist in den Bootsektor und sind im Hauptspeicher resid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ie haben meist Zugriff auf Systemfunktione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ie können sich schnell über das ganze System verbrei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624960"/>
            <a:ext cx="5257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Programmvir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Infizieren von durch Anwendungssoftware belegten Speicherbereich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nwendungssoftware dient als Wirtsprogram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inteilung 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 3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Arial"/>
              </a:rPr>
              <a:t>Überschreibende Programmvi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 3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Arial"/>
              </a:rPr>
              <a:t>Nicht überschreibende Programmvi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4100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Überschreibende Programmvir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1447920"/>
            <a:ext cx="8675640" cy="21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Überschreiben den Anfangsteil des Wirtsprogram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ymptome: Anwenderprogramme sind nur mehr teilweise bzw. nicht funktionsfäh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219320" y="3789360"/>
            <a:ext cx="5257800" cy="937440"/>
            <a:chOff x="1219320" y="3789360"/>
            <a:chExt cx="5257800" cy="937440"/>
          </a:xfrm>
        </p:grpSpPr>
        <p:sp>
          <p:nvSpPr>
            <p:cNvPr id="102" name=""/>
            <p:cNvSpPr/>
            <p:nvPr/>
          </p:nvSpPr>
          <p:spPr>
            <a:xfrm>
              <a:off x="1295280" y="4267080"/>
              <a:ext cx="1143000" cy="38124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438280" y="4267080"/>
              <a:ext cx="3733920" cy="38124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219320" y="3789360"/>
              <a:ext cx="5257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Nicht infiziertes Program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600200" y="4267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038480" y="4267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258920" y="4925880"/>
            <a:ext cx="7561080" cy="1410840"/>
            <a:chOff x="1258920" y="4925880"/>
            <a:chExt cx="7561080" cy="1410840"/>
          </a:xfrm>
        </p:grpSpPr>
        <p:sp>
          <p:nvSpPr>
            <p:cNvPr id="108" name=""/>
            <p:cNvSpPr/>
            <p:nvPr/>
          </p:nvSpPr>
          <p:spPr>
            <a:xfrm>
              <a:off x="1295280" y="5410080"/>
              <a:ext cx="1143000" cy="38124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438280" y="5410080"/>
              <a:ext cx="3733920" cy="38124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14800" y="541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258920" y="4925880"/>
              <a:ext cx="5257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Infiziertes Program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 flipV="1">
              <a:off x="1979280" y="5949720"/>
              <a:ext cx="1871640" cy="14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067280" y="5877000"/>
              <a:ext cx="475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Verdana"/>
                </a:rPr>
                <a:t>Virus überschreibt Program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19280" y="53481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691920"/>
            <a:ext cx="64310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Nicht-überschreibende Programmvi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534160" cy="26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Virus setzt sich an den Anfang und verschiebt den Programmteil ans En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Beim Programmstart wird zuerst der Virus ausgeführt und dann das Program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539640" y="4133880"/>
            <a:ext cx="8425080" cy="1239480"/>
            <a:chOff x="539640" y="4133880"/>
            <a:chExt cx="8425080" cy="1239480"/>
          </a:xfrm>
        </p:grpSpPr>
        <p:sp>
          <p:nvSpPr>
            <p:cNvPr id="118" name=""/>
            <p:cNvSpPr/>
            <p:nvPr/>
          </p:nvSpPr>
          <p:spPr>
            <a:xfrm>
              <a:off x="539640" y="4133880"/>
              <a:ext cx="842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Virus wird ausgeführt, dann Teil A dann Teil 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1197000" y="4869000"/>
              <a:ext cx="6327360" cy="504360"/>
              <a:chOff x="1197000" y="4869000"/>
              <a:chExt cx="6327360" cy="504360"/>
            </a:xfrm>
          </p:grpSpPr>
          <p:sp>
            <p:nvSpPr>
              <p:cNvPr id="120" name=""/>
              <p:cNvSpPr/>
              <p:nvPr/>
            </p:nvSpPr>
            <p:spPr>
              <a:xfrm>
                <a:off x="1197000" y="4869000"/>
                <a:ext cx="1395720" cy="504360"/>
              </a:xfrm>
              <a:prstGeom prst="rect">
                <a:avLst/>
              </a:prstGeom>
              <a:solidFill>
                <a:srgbClr val="ff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592720" y="4869000"/>
                <a:ext cx="3535920" cy="504360"/>
              </a:xfrm>
              <a:prstGeom prst="rect">
                <a:avLst/>
              </a:prstGeom>
              <a:solidFill>
                <a:srgbClr val="c0c0c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988440" y="4869000"/>
                <a:ext cx="55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128640" y="4869000"/>
                <a:ext cx="1395720" cy="504360"/>
              </a:xfrm>
              <a:prstGeom prst="rect">
                <a:avLst/>
              </a:prstGeom>
              <a:solidFill>
                <a:srgbClr val="c0c0c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500880" y="4869000"/>
                <a:ext cx="55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16:05:57Z</dcterms:created>
  <dc:creator>christian</dc:creator>
  <dc:description/>
  <dc:language>en-US</dc:language>
  <cp:lastModifiedBy>Ralph-Erich Hildebrandt</cp:lastModifiedBy>
  <dcterms:modified xsi:type="dcterms:W3CDTF">2005-12-13T11:50:38Z</dcterms:modified>
  <cp:revision>200</cp:revision>
  <dc:subject/>
  <dc:title>PowerPoint-Präsentation</dc:title>
</cp:coreProperties>
</file>