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160020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118160" y="315180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4800" y="609588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1B99-CA20-4BDA-9F75-BA45794542FD}" type="slidenum">
              <a:rPr b="1" lang="de-DE" sz="1600" spc="-1" strike="noStrike">
                <a:solidFill>
                  <a:srgbClr val="660066"/>
                </a:solidFill>
                <a:latin typeface="Arial Rounded MT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2680" y="659124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27.02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235800" y="305496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 Rounded MT Bold"/>
              </a:rPr>
              <a:t>Java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1118160" y="315180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810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h" descr=""/>
          <p:cNvPicPr/>
          <p:nvPr/>
        </p:nvPicPr>
        <p:blipFill>
          <a:blip r:embed="rId2"/>
          <a:stretch/>
        </p:blipFill>
        <p:spPr>
          <a:xfrm>
            <a:off x="7265880" y="0"/>
            <a:ext cx="187812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" charset="2"/>
              <a:buChar char="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 Einführung in JavaScript für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en Differenzierungskurs Informatik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er Stufe 10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5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5.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162920" cy="4191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Berta hat einen bestimmten Betrag auf dem Sparkonto und erhält p% Zinsen pro Jahr, die sie jeweils auf dem Konto belässt. Schreibe ein Javascript, das ausrechnet, wie hoch das Kapital nach n Jahren ist.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Teste es mit 100DM, 3% und 10 Jahren au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5.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162920" cy="2209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Wie lange braucht Berta aus der Übung 5.3, um ihr Anfangskapital bei einem festen Zinssatz von 3% bzw. 7% zu verdoppeln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While-Schle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366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86240" y="4191120"/>
            <a:ext cx="589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Times New Roman"/>
              </a:rPr>
              <a:t>Das ggT zweier Zahlen soll berechnet werd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5680" y="1873080"/>
            <a:ext cx="277164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while (Beding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Anweisung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Anweisu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While-Schle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366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39360" y="1851120"/>
            <a:ext cx="7389000" cy="47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function BerechnungGG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var Zahl1, Zahl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Zahl1=parseInt(document.ggT.ZAHL1.valu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Zahl2=parseInt(document.ggT.ZAHL2.valu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while(Math.abs(Zahl1-Zahl2)&gt;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if (Zahl1&lt;Zahl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Zahl2=Zahl2-Zahl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Zahl1=Zahl1-Zahl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document.ggT.ERG.value=Zahl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While-Schle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366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9360" y="1981080"/>
            <a:ext cx="716508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r Schleifenkörper der While-Schleife wird 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nn ausgeführt, wenn die Bedingung am Anfang wa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st. Daher spricht man auch von </a:t>
            </a:r>
            <a:br>
              <a:rPr sz="2400"/>
            </a:b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Schleife mit Eingangsbedingung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nnerhalb der Schleife muss man dafür Sorge trag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ss irgendwann die Bedingung falsch wird, damit k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3300"/>
                </a:solidFill>
                <a:uFillTx/>
                <a:latin typeface="Times New Roman"/>
              </a:rPr>
              <a:t>Endlosschleife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entst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Bedingung am Anfang kann auch sofort falsch sei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nn wird der Schleifenkörper nicht ausgefüh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Wenn die Eingangsbedingung falsch wird, dann wird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r Programmzeile nach der Schleife fortgese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5.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162920" cy="373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Wie lange braucht Berta aus der Übung 5.3, um ihr Anfangskapital bei einem festen Zinssatz von 3% bzw. 7% zu verdoppeln? Löse diese Aufgabe jetzt nicht mehr durch Probieren, sondern mit Hilfe einer While-Schleif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5.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858000" cy="4495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Zerlegung in Primfaktoren: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 Zahl wird eingegeben (z. B. 60); Teiler hat zuerst den Wert 2. Wenn die Zahl teilbar ist, notiert man den Teiler und ersetzt die Zahl durch den Quotienten Zahl/Teiler; wenn sie nicht teilbar ist, erhöht man den Teiler um 1; das geht weiter, solange der Teiler kleiner ist als "Zahl"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5.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858000" cy="4038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Im Jahr 1987 hatte Indien 700 Milionen Einwohner, China dagegen 900 Millionen. Das Bevölkerungs-wachstum betrug in Indien 2,1 %, in China 1,4 % pro Jahr. Wann hat Indiens Einwohnerzahl die von China überholt (unter der Annahme gleichbleibender Wachstumsraten) ?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Do-Schle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366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89400" y="4800600"/>
            <a:ext cx="6932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Times New Roman"/>
              </a:rPr>
              <a:t>Wir testen, ob eine eingegebene Zahl eine Primzahl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5680" y="1873080"/>
            <a:ext cx="2771640" cy="222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Anweisung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Anweisu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while (Beding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Do-Schle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366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8280" y="1851120"/>
            <a:ext cx="6886080" cy="47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function PZTes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var Zahl, PZ, Teile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Zahl=parseInt(document.PZ.ZAHL.valu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PZ="Ja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Teiler =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if ((Zahl % Teiler)==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PZ="Nein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Teiler++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} while (Teiler &lt;= Zahl/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document.ggT.ERG.value=Zahl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5: Schleif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Do-Schle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366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9000" y="1981080"/>
            <a:ext cx="71150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r Schleifenkörper der Do-Schleife wird 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nn ausgeführt, wenn die Bedingung am Ende wa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st. Daher spricht man auch von </a:t>
            </a:r>
            <a:br>
              <a:rPr sz="2400"/>
            </a:b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Schleife mit Austrittsbedingung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nnerhalb der Schleife muss man dafür Sorge trag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ss irgendwann die Bedingung falsch wird, damit k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3300"/>
                </a:solidFill>
                <a:uFillTx/>
                <a:latin typeface="Times New Roman"/>
              </a:rPr>
              <a:t>Endlosschleife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entst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Bedingung am Ende kann auch sofort falsch sei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nn wird der Schleifenkörper dennoch einmal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usgefüh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Wenn die Austrittsbedingung falsch wird, dann wird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r Programmzeile nach der Schleife fortgese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5.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858000" cy="2286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Führe die Übung 5.5 erneut mit Hilfe einer Do-Schleife durch.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Welche Variante ist sinnvoller? Begründe deine Antwort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5.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858000" cy="4876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In einem Teich leben 50 Forellen, doch ist Futter und Platz für 350 vorhanden. Die Forellen vermehren sich jährlich um 6 % der Differenz zwischen Höchstbestand und aktuellem Bestand. Wie entwickelt sich die Population 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) ohne äußere Einwirkungen,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) wenn am Ende jedes Jahres 15 % der Forellen entnommen werden ?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chleif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366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94800" y="1828800"/>
            <a:ext cx="6648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Häufig müssen wiederkehrende Dinge immer wieder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urchgeführt werden. Hier redet man von </a:t>
            </a: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Schleifen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2560" y="3276720"/>
            <a:ext cx="41659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chleife mit Eingangsbedin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47440" y="5867280"/>
            <a:ext cx="408384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chleife mit Austrittsbedin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99160" y="4419720"/>
            <a:ext cx="16909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ählschle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3733920"/>
            <a:ext cx="1600200" cy="685800"/>
          </a:xfrm>
          <a:prstGeom prst="line">
            <a:avLst/>
          </a:prstGeom>
          <a:ln w="507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Zählschle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366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14880" y="4267080"/>
            <a:ext cx="73814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Times New Roman"/>
              </a:rPr>
              <a:t>Die </a:t>
            </a: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Fakultät</a:t>
            </a:r>
            <a:r>
              <a:rPr b="0" lang="de-DE" sz="2400" spc="-1" strike="noStrike">
                <a:solidFill>
                  <a:srgbClr val="000066"/>
                </a:solidFill>
                <a:latin typeface="Times New Roman"/>
              </a:rPr>
              <a:t> einer (natürlichen) Zahl ist das Produkt aller </a:t>
            </a:r>
            <a:br>
              <a:rPr sz="2400"/>
            </a:br>
            <a:r>
              <a:rPr b="0" lang="de-DE" sz="2400" spc="-1" strike="noStrike">
                <a:solidFill>
                  <a:srgbClr val="000066"/>
                </a:solidFill>
                <a:latin typeface="Times New Roman"/>
              </a:rPr>
              <a:t>natürlichen Zahlen von 1 bis zu dieser Zahl. </a:t>
            </a:r>
            <a:br>
              <a:rPr sz="2400"/>
            </a:br>
            <a:r>
              <a:rPr b="0" lang="de-DE" sz="2400" spc="-1" strike="noStrike">
                <a:solidFill>
                  <a:srgbClr val="000066"/>
                </a:solidFill>
                <a:latin typeface="Times New Roman"/>
              </a:rPr>
              <a:t>Z. B. 7! ( 7-Fakultät ) = 1 · 2 · 3 · 4 · 5 · 6 ·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5680" y="1873080"/>
            <a:ext cx="734364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for (ZählVar=Anfangswert;Bedingung;Veränder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Anweisung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Anweisu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Zählschle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66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9000" y="1851120"/>
            <a:ext cx="7221600" cy="378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function BerechnungFak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var Grundzahl, Ergebnis, 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Grundzahl=document.Fakultaet.ZAHL.val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Ergebnis=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for(i=1;i&lt;=Grundzahl;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Ergebnis=Ergebnis*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document.Fakultaet.ERG.value=Ergebni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Zählschle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366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98640" y="1981080"/>
            <a:ext cx="62326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Bedingung gibt an, wie lange weitergemacht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werden soll;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Zählvariable muss so geändert werden,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ss die Bedingung irgendwann nicht mehr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erfüllt ist. Ansonsten entsteht eine sogenannte</a:t>
            </a:r>
            <a:br>
              <a:rPr sz="2400"/>
            </a:b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Endlosschleife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Zählschle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66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5400" y="1981080"/>
            <a:ext cx="6262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ögliche Veränderungen s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++: Erhöhung der Zählvariable um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--: Verminderung der Zählvariable um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+Wert: Erhöhung der Zählvariable um +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-Wert: Verminderung der Zählvariable um -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5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6934320" cy="2057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e Summe aller natürlichen Zahlen in einem bestimmten Bereich soll ermittelt werden; Eingabe "von" und "bis", Ausgabe : "Summe"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5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373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Otto hat vier Klassenarbeiten geschrieben und möchte ein Programm schreiben, das den Notendurchschnitt berechnet. Schreibe eine vollständige Programmanalyse mit Formular, Struktogramm und Javascrip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7:42:46Z</dcterms:created>
  <dc:creator>Ralph-Erich Hildebrandt</dc:creator>
  <dc:description/>
  <dc:language>en-US</dc:language>
  <cp:lastModifiedBy>Ralph-Erich Hildebrandt</cp:lastModifiedBy>
  <dcterms:modified xsi:type="dcterms:W3CDTF">2002-02-17T12:11:35Z</dcterms:modified>
  <cp:revision>167</cp:revision>
  <dc:subject/>
  <dc:title>HTML-Grundlagen</dc:title>
</cp:coreProperties>
</file>