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480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C31B-E384-4011-A1E6-FAE8986773C1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99240" y="6613560"/>
            <a:ext cx="683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9AD6-AC5C-4448-BE06-667BD2FA61D6}" type="datetime">
              <a:rPr b="1" lang="de-DE" sz="1000" spc="-1" strike="noStrike">
                <a:solidFill>
                  <a:srgbClr val="ffffff"/>
                </a:solidFill>
                <a:latin typeface="Arial Rounded MT Bold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1123200" y="3263760"/>
            <a:ext cx="38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echnische Grundlagen des Inter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 in die 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echnischen Grundlagen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fferenzierungskurs Informatik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(Teil 5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nternetadress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U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8440" y="2743200"/>
            <a:ext cx="70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Zugriffsprotokoll://Hostname.Domain/Pfad/Datei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2720" y="1828800"/>
            <a:ext cx="45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niform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source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o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38800" y="3657600"/>
            <a:ext cx="6901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ftp://ftp.berlin.de/pub/soft/dos/virus/virdoc.txt</a:t>
            </a:r>
            <a:br>
              <a:rPr sz="18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ür eine FTP-Datei-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5320" y="4800600"/>
            <a:ext cx="7724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http://www.bundestag.de/Etat2010/Forschung/internet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ür eine Webseiten-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ufbau der U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35320" y="175248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http://www.bundestag.de/Etat2010/Forschung/internet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12600" y="264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http: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4000" y="266688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Zugriffsprotok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7480" y="319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ww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320" y="32004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Ho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4960" y="3805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bundestag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7600" y="38098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Domain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4146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/Etat2010/Forschu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23200" y="4357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Pf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10800" y="50101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internet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952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Datei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EMail-Adress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4800" y="17524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urier New"/>
              </a:rPr>
              <a:t>username@domainna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8160" y="25909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webmaster@kag-langenfeld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365760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urier New"/>
              </a:rPr>
              <a:t>username@pophost.domain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8160" y="457200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mathe@mail.bezreg-duesseldorf.nrw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8:23:39Z</dcterms:created>
  <dc:creator>Ralph-Erich Hildebrandt</dc:creator>
  <dc:description/>
  <dc:language>en-US</dc:language>
  <cp:lastModifiedBy>Ralph-Erich Hildebrandt</cp:lastModifiedBy>
  <dcterms:modified xsi:type="dcterms:W3CDTF">2004-02-18T13:39:13Z</dcterms:modified>
  <cp:revision>34</cp:revision>
  <dc:subject/>
  <dc:title>Internet</dc:title>
</cp:coreProperties>
</file>