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4888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3580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36196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44888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3580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2856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44888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3580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36196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44888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3580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856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 3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228600" y="5791320"/>
            <a:ext cx="838080" cy="7617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45720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609480"/>
            <a:ext cx="457200" cy="45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371600" y="1600200"/>
            <a:ext cx="77724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16200000">
            <a:off x="-1119600" y="315324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Rounded MT Bold"/>
              </a:rPr>
              <a:t>Ralph-Erich Hildebran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44800" y="6095880"/>
            <a:ext cx="121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27C5-085D-4A49-B5D1-CE291D073AB2}" type="slidenum">
              <a:rPr b="1" lang="de-DE" sz="1600" spc="-1" strike="noStrike">
                <a:solidFill>
                  <a:srgbClr val="660066"/>
                </a:solidFill>
                <a:latin typeface="Arial Rounded MT Bol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75560" y="6613560"/>
            <a:ext cx="6836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FC59-A937-4F76-A0FA-3EC7A88F291A}" type="datetime">
              <a:rPr b="1" lang="de-DE" sz="1000" spc="-1" strike="noStrike">
                <a:solidFill>
                  <a:srgbClr val="ffffff"/>
                </a:solidFill>
                <a:latin typeface="Arial Rounded MT Bold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-1123200" y="3263760"/>
            <a:ext cx="38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Technische Grundlagen des Intern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28600" y="5791320"/>
            <a:ext cx="838080" cy="7617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5720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09480"/>
            <a:ext cx="457200" cy="45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3581280"/>
            <a:ext cx="77724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-1119600" y="315324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Rounded MT Bold"/>
              </a:rPr>
              <a:t>Ralph-Erich Hildebran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981080"/>
            <a:ext cx="77724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reh" descr=""/>
          <p:cNvPicPr/>
          <p:nvPr/>
        </p:nvPicPr>
        <p:blipFill>
          <a:blip r:embed="rId2"/>
          <a:stretch/>
        </p:blipFill>
        <p:spPr>
          <a:xfrm>
            <a:off x="7265880" y="0"/>
            <a:ext cx="1878120" cy="1981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Wingdings 3" charset="2"/>
              <a:buChar char="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Wingdings 3" charset="2"/>
              <a:buChar char="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Wingdings 3" charset="2"/>
              <a:buChar char="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ine Einführung in die 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technischen Grundlagen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Differenzierungskurs Informatik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(Teil 4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Domain Name Service (DNS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Domain Name Service (DN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Zuordnung von logischen Namen zusätzlich zur IP-Nummer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Form:</a:t>
            </a:r>
            <a:br>
              <a:rPr sz="3200"/>
            </a:br>
            <a:r>
              <a:rPr b="1" lang="de-DE" sz="3200" spc="-1" strike="noStrike">
                <a:solidFill>
                  <a:srgbClr val="ff0000"/>
                </a:solidFill>
                <a:latin typeface="Times New Roman"/>
              </a:rPr>
              <a:t>Hostname.domainname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66"/>
                </a:solidFill>
                <a:latin typeface="Times New Roman"/>
              </a:rPr>
              <a:t>Beispiele:</a:t>
            </a:r>
            <a:br>
              <a:rPr sz="3200"/>
            </a:br>
            <a:r>
              <a:rPr b="1" lang="de-DE" sz="3200" spc="-1" strike="noStrike">
                <a:solidFill>
                  <a:srgbClr val="ffff66"/>
                </a:solidFill>
                <a:latin typeface="Times New Roman"/>
              </a:rPr>
              <a:t>www.kag-langenfeld.de</a:t>
            </a:r>
            <a:br>
              <a:rPr sz="3200"/>
            </a:br>
            <a:r>
              <a:rPr b="1" lang="de-DE" sz="3200" spc="-1" strike="noStrike">
                <a:solidFill>
                  <a:srgbClr val="ffff66"/>
                </a:solidFill>
                <a:latin typeface="Times New Roman"/>
              </a:rPr>
              <a:t>www.ibm.com</a:t>
            </a:r>
            <a:br>
              <a:rPr sz="3200"/>
            </a:br>
            <a:r>
              <a:rPr b="1" lang="de-DE" sz="3200" spc="-1" strike="noStrike">
                <a:solidFill>
                  <a:srgbClr val="ffff66"/>
                </a:solidFill>
                <a:latin typeface="Times New Roman"/>
              </a:rPr>
              <a:t>www.gmx.de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Domainnam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Domainnamen werden immer von hinten nach vorne gelese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Letzter Bestandteil ist die sog. TLD (Top Level Domain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In den USA nach inhaltlichen Kriterie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Ansonsten Kennung des Lande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Top Level Doma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09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com = commercia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edu = education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org = non-profit organisation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gov = goverment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mil = military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net = network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24200" y="1981080"/>
            <a:ext cx="3009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de = Deutschland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uk = Großbritanien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fr = Frankreich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it = Italien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nl = Niederland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pt = Portuga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es = Spanien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Verwaltung des D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Am Anfang zentrale Referenz-Datei /etc/host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Heute DNS-Server, die hierarchisch angeordnet sind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Jeder ist für sein Subnetz verantwortlich und leitet ggf. die Anfrage an den übergeordneten weiter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Ablauf der DNS-Anfr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43400" y="1865160"/>
            <a:ext cx="1018800" cy="2764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172.22.204.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2000" y="2666880"/>
            <a:ext cx="1056960" cy="4590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172.22.202.88</a:t>
            </a:r>
            <a:br>
              <a:rPr sz="1200"/>
            </a:b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2000" y="3581280"/>
            <a:ext cx="1018800" cy="4590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172.22.202.1 </a:t>
            </a:r>
            <a:br>
              <a:rPr sz="1200"/>
            </a:b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8320" y="4876920"/>
            <a:ext cx="1018800" cy="6415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cc"/>
                </a:solidFill>
                <a:latin typeface="Times New Roman"/>
              </a:rPr>
              <a:t>217.5.121.65 </a:t>
            </a:r>
            <a:br>
              <a:rPr sz="1200"/>
            </a:br>
            <a:r>
              <a:rPr b="0" lang="de-DE" sz="1200" spc="-1" strike="noStrike">
                <a:solidFill>
                  <a:srgbClr val="3333cc"/>
                </a:solidFill>
                <a:latin typeface="Times New Roman"/>
              </a:rPr>
              <a:t>Einwahl</a:t>
            </a:r>
            <a:br>
              <a:rPr sz="1200"/>
            </a:br>
            <a:r>
              <a:rPr b="0" lang="de-DE" sz="1200" spc="-1" strike="noStrike">
                <a:solidFill>
                  <a:srgbClr val="3333cc"/>
                </a:solidFill>
                <a:latin typeface="Times New Roman"/>
              </a:rPr>
              <a:t>Telek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3080" y="4876920"/>
            <a:ext cx="1095120" cy="6415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cc"/>
                </a:solidFill>
                <a:latin typeface="Times New Roman"/>
              </a:rPr>
              <a:t>217.5.121.126 </a:t>
            </a:r>
            <a:br>
              <a:rPr sz="1200"/>
            </a:br>
            <a:r>
              <a:rPr b="0" lang="de-DE" sz="1200" spc="-1" strike="noStrike">
                <a:solidFill>
                  <a:srgbClr val="3333cc"/>
                </a:solidFill>
                <a:latin typeface="Times New Roman"/>
              </a:rPr>
              <a:t>Router</a:t>
            </a:r>
            <a:br>
              <a:rPr sz="1200"/>
            </a:br>
            <a:r>
              <a:rPr b="0" lang="de-DE" sz="1200" spc="-1" strike="noStrike">
                <a:solidFill>
                  <a:srgbClr val="3333cc"/>
                </a:solidFill>
                <a:latin typeface="Times New Roman"/>
              </a:rPr>
              <a:t>Telek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7120" y="5943600"/>
            <a:ext cx="1247400" cy="6415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cc"/>
                </a:solidFill>
                <a:latin typeface="Times New Roman"/>
              </a:rPr>
              <a:t>212.185.253.136 </a:t>
            </a:r>
            <a:br>
              <a:rPr sz="1200"/>
            </a:br>
            <a:r>
              <a:rPr b="0" lang="de-DE" sz="1200" spc="-1" strike="noStrike">
                <a:solidFill>
                  <a:srgbClr val="3333cc"/>
                </a:solidFill>
                <a:latin typeface="Times New Roman"/>
              </a:rPr>
              <a:t>Proxy</a:t>
            </a:r>
            <a:br>
              <a:rPr sz="1200"/>
            </a:br>
            <a:r>
              <a:rPr b="0" lang="de-DE" sz="1200" spc="-1" strike="noStrike">
                <a:solidFill>
                  <a:srgbClr val="3333cc"/>
                </a:solidFill>
                <a:latin typeface="Times New Roman"/>
              </a:rPr>
              <a:t>Telek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4876920"/>
            <a:ext cx="2362320" cy="1752480"/>
          </a:xfrm>
          <a:prstGeom prst="cloudCallout">
            <a:avLst>
              <a:gd name="adj1" fmla="val -41328"/>
              <a:gd name="adj2" fmla="val -217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88360" y="3276720"/>
            <a:ext cx="1133280" cy="6415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217.110.50.206</a:t>
            </a:r>
            <a:br>
              <a:rPr sz="1200"/>
            </a:b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br>
              <a:rPr sz="1200"/>
            </a:b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colt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7800" y="2209680"/>
            <a:ext cx="1640880" cy="459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195.68.246.41</a:t>
            </a:r>
            <a:br>
              <a:rPr sz="1200"/>
            </a:b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www.kag-langenfeld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2133720"/>
            <a:ext cx="0" cy="53316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3124080"/>
            <a:ext cx="0" cy="4572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4038480"/>
            <a:ext cx="0" cy="83844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5334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5486400"/>
            <a:ext cx="0" cy="4572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343400" y="5486400"/>
            <a:ext cx="0" cy="457200"/>
          </a:xfrm>
          <a:prstGeom prst="line">
            <a:avLst/>
          </a:prstGeom>
          <a:ln cap="rnd" w="38160">
            <a:solidFill>
              <a:srgbClr val="ff66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666880" y="5181480"/>
            <a:ext cx="914400" cy="0"/>
          </a:xfrm>
          <a:prstGeom prst="line">
            <a:avLst/>
          </a:prstGeom>
          <a:ln cap="rnd" w="38160">
            <a:solidFill>
              <a:srgbClr val="ff66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057400" y="4038120"/>
            <a:ext cx="0" cy="838440"/>
          </a:xfrm>
          <a:prstGeom prst="line">
            <a:avLst/>
          </a:prstGeom>
          <a:ln cap="rnd" w="38160">
            <a:solidFill>
              <a:srgbClr val="ff66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057400" y="3124080"/>
            <a:ext cx="0" cy="457200"/>
          </a:xfrm>
          <a:prstGeom prst="line">
            <a:avLst/>
          </a:prstGeom>
          <a:ln cap="rnd" w="38160">
            <a:solidFill>
              <a:srgbClr val="ff66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057400" y="2133360"/>
            <a:ext cx="0" cy="533160"/>
          </a:xfrm>
          <a:prstGeom prst="line">
            <a:avLst/>
          </a:prstGeom>
          <a:ln cap="rnd" w="38160">
            <a:solidFill>
              <a:srgbClr val="ff66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6080" y="1828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99"/>
                </a:solidFill>
                <a:latin typeface="Times New Roman"/>
              </a:rPr>
              <a:t>DNS-Anf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228600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Times New Roman"/>
              </a:rPr>
              <a:t>IP-Rückübermitt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2133720"/>
            <a:ext cx="0" cy="53316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502920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5105520"/>
            <a:ext cx="1523880" cy="45720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724280" y="6171840"/>
            <a:ext cx="1447920" cy="2286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724280" y="6019200"/>
            <a:ext cx="1447920" cy="228600"/>
          </a:xfrm>
          <a:prstGeom prst="line">
            <a:avLst/>
          </a:prstGeom>
          <a:ln cap="rnd" w="38160">
            <a:solidFill>
              <a:srgbClr val="ff66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8680" y="274320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Times New Roman"/>
              </a:rPr>
              <a:t>HTTP-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8077320" y="3885840"/>
            <a:ext cx="0" cy="106668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8077320" y="2666880"/>
            <a:ext cx="0" cy="60984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08:23:39Z</dcterms:created>
  <dc:creator>Ralph-Erich Hildebrandt</dc:creator>
  <dc:description/>
  <dc:language>en-US</dc:language>
  <cp:lastModifiedBy>Ralph-Erich Hildebrandt</cp:lastModifiedBy>
  <dcterms:modified xsi:type="dcterms:W3CDTF">2004-02-18T13:38:13Z</dcterms:modified>
  <cp:revision>36</cp:revision>
  <dc:subject/>
  <dc:title>Internet</dc:title>
</cp:coreProperties>
</file>