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171-2FB2-453D-AF29-3A47793C0600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7556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A2F-F745-48F8-8DBC-4F92F36A3DEE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123200" y="326376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chnische Grundlagen des In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di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chnischen Grundlagen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(Teil 3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Protokollfrag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schichtn" descr=""/>
          <p:cNvPicPr/>
          <p:nvPr/>
        </p:nvPicPr>
        <p:blipFill>
          <a:blip r:embed="rId1"/>
          <a:stretch/>
        </p:blipFill>
        <p:spPr>
          <a:xfrm>
            <a:off x="1523880" y="1808280"/>
            <a:ext cx="73152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P-Nummer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Jeder Rechner, der im Internet aktiv wird, braucht eine eindeutige Identifizierun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dentifizierung geschieht über IP-Numme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32-Bit langes Wor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geteilt in 4 Oktets zu je 8 Bit = 1 Byt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P-Nummern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classc02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9720" cy="3457440"/>
          </a:xfrm>
          <a:prstGeom prst="rect">
            <a:avLst/>
          </a:prstGeom>
          <a:ln w="0">
            <a:noFill/>
          </a:ln>
        </p:spPr>
      </p:pic>
      <p:pic>
        <p:nvPicPr>
          <p:cNvPr id="105" name="classc01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4419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ufbau einer IP-Num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3760" y="2133720"/>
            <a:ext cx="7142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17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2920" y="2133720"/>
            <a:ext cx="5616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6440" y="2133720"/>
            <a:ext cx="7142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2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7880" y="2133720"/>
            <a:ext cx="333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82880" y="3276720"/>
            <a:ext cx="1476000" cy="459720"/>
            <a:chOff x="1982880" y="3276720"/>
            <a:chExt cx="1476000" cy="459720"/>
          </a:xfrm>
        </p:grpSpPr>
        <p:sp>
          <p:nvSpPr>
            <p:cNvPr id="112" name=""/>
            <p:cNvSpPr/>
            <p:nvPr/>
          </p:nvSpPr>
          <p:spPr>
            <a:xfrm>
              <a:off x="1982880" y="3276720"/>
              <a:ext cx="147600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333cc"/>
                  </a:solidFill>
                  <a:latin typeface="Times New Roman"/>
                </a:rPr>
                <a:t>10 10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735360" y="3276720"/>
            <a:ext cx="14000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000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1880" y="3276720"/>
            <a:ext cx="14000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1110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3276720"/>
            <a:ext cx="14000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0000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81080" y="3733920"/>
            <a:ext cx="3124440" cy="992880"/>
            <a:chOff x="1981080" y="3733920"/>
            <a:chExt cx="3124440" cy="992880"/>
          </a:xfrm>
        </p:grpSpPr>
        <p:sp>
          <p:nvSpPr>
            <p:cNvPr id="118" name=""/>
            <p:cNvSpPr/>
            <p:nvPr/>
          </p:nvSpPr>
          <p:spPr>
            <a:xfrm rot="16200000">
              <a:off x="3314520" y="2400120"/>
              <a:ext cx="457200" cy="3124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1360 h 3124440"/>
                <a:gd name="textAreaBottom" fmla="*/ 304308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1640" y="4267080"/>
              <a:ext cx="196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t-ID: 440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10080" y="3733920"/>
            <a:ext cx="3124440" cy="992880"/>
            <a:chOff x="5410080" y="3733920"/>
            <a:chExt cx="3124440" cy="992880"/>
          </a:xfrm>
        </p:grpSpPr>
        <p:sp>
          <p:nvSpPr>
            <p:cNvPr id="121" name=""/>
            <p:cNvSpPr/>
            <p:nvPr/>
          </p:nvSpPr>
          <p:spPr>
            <a:xfrm rot="16200000">
              <a:off x="6743520" y="2400120"/>
              <a:ext cx="457200" cy="3124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1360 h 3124440"/>
                <a:gd name="textAreaBottom" fmla="*/ 304308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21000" y="426708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ost-ID: 59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523880" y="5333400"/>
            <a:ext cx="1219320" cy="1143000"/>
          </a:xfrm>
          <a:prstGeom prst="wedgeRoundRectCallout">
            <a:avLst>
              <a:gd name="adj1" fmla="val -3518"/>
              <a:gd name="adj2" fmla="val 194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80080" y="5353200"/>
            <a:ext cx="35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dotted quad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Netz-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47920" y="2286000"/>
          <a:ext cx="769608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76960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2-09-27T10:47:18Z</dcterms:modified>
  <cp:revision>34</cp:revision>
  <dc:subject/>
  <dc:title>Internet</dc:title>
</cp:coreProperties>
</file>