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A72-CDA3-4AC0-93F6-ED5DD6A05FF0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9924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8DD5-6095-4835-92D6-A77CEED4FD14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123200" y="326376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chnische Grundlagen des In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di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chnischen Grundlagen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(Teil 2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schichte: Konsolidie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ür Privatleute wird Web immer mehr auch zum Freizeit-Medium </a:t>
            </a:r>
            <a:r>
              <a:rPr b="0" lang="de-DE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 Chat, Shoppin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eschäftsideen des Internet schreiben rote Zahlen; erste Plei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ot-com-Pleitewelle </a:t>
            </a:r>
            <a:r>
              <a:rPr b="0" lang="de-DE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 Rückgang der Aktienkurse /Auflösung des Neuen Marktes (2001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ot-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yahoo.com: Katalo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oogle.com: Suchmaschin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bay.com: Auktionshau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mazon.com: Buchhand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eschicht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Kurze Geschichte des Intern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e Anfänge (1969-1978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US-Universitätsnetz (1978-1985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Öffnung nach Europa (1986-1990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as Web (1991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ommerzialisierung und Privatisierung (ab 1995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orgeschich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58: Sputnik-Schock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61: Gagarin: 1. Mensch im Al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63: Kuba-Kris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b 1965: Vietnam-Krie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63-1969: Aufbau des Mondlandeprogramms der NASA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61: Neil Armstrong 1. Mensch auf dem Mo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schichte: Die Anfä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findung des Department of Defense </a:t>
            </a:r>
            <a:r>
              <a:rPr b="0" lang="de-DE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MilNe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Unempfindlichkeit gegen nuklearen Erstschlag der UdSS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uch bei Zerstörung eines Teilnetzes soll der Rest weiterfunktionier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ntwicklung der Computer durch Mondlandeprogramm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schichte: Universitä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Umbenennung in ARPANe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71: NCP als Protokol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71: 15 Knoten und 23 Host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Mitte 70er: Entwicklung von UNIX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und von TCP/IP als Protokol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 Dienste: EMail und News (UseNet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schichte: Euro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86: Entstehung des RARE (</a:t>
            </a: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Réseaux Associés pour la Recherche Européenne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Versuch europäische Standards einzuführen (ISO/OSI; X.25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1992: EBone als europäischer Teil des Interne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schichte: Das We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1991 entwickelt am CERN in Genf/CH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ustausch von Kernphysikern - multimedialen Aspekten angereicherte Text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Protokoll http 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yper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xt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ransfer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rotokol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okumentensprache HTML 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yper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xt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rkup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nguage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schichte: Kommerzialisie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Privatleute erlangen Zugang zum Internet: EMail und Web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irmen entdecken Web als Plattform für ECommerc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pezielle Geschäftsideen aus dem Internet: Auktionen, Powershopping, Online-Bankin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ot-Com-Companies an der Börse erfolgreich (Neuer Markt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4-02-18T13:32:39Z</dcterms:modified>
  <cp:revision>36</cp:revision>
  <dc:subject/>
  <dc:title>Internet</dc:title>
</cp:coreProperties>
</file>