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4888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3580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36196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44888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3580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44888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3580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36196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44888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3580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 3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228600" y="5791320"/>
            <a:ext cx="838080" cy="761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45720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609480"/>
            <a:ext cx="457200" cy="45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371600" y="160020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16200000">
            <a:off x="-1119600" y="315324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Rounded MT Bold"/>
              </a:rPr>
              <a:t>Ralph-Erich Hildebran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44800" y="6095880"/>
            <a:ext cx="121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2069-9C48-4B00-BD78-FB6CACDD4466}" type="slidenum">
              <a:rPr b="1" lang="de-DE" sz="1600" spc="-1" strike="noStrike">
                <a:solidFill>
                  <a:srgbClr val="660066"/>
                </a:solidFill>
                <a:latin typeface="Arial Rounded MT Bol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99240" y="6613560"/>
            <a:ext cx="6836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131B-B90D-4202-83A3-2957257394BC}" type="datetime">
              <a:rPr b="1" lang="de-DE" sz="1000" spc="-1" strike="noStrike">
                <a:solidFill>
                  <a:srgbClr val="ffffff"/>
                </a:solidFill>
                <a:latin typeface="Arial Rounded MT Bold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-1123200" y="3263760"/>
            <a:ext cx="38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Technische Grundlagen des Intern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28600" y="5791320"/>
            <a:ext cx="838080" cy="761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5720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480"/>
            <a:ext cx="457200" cy="45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358128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-1119600" y="315324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Rounded MT Bold"/>
              </a:rPr>
              <a:t>Ralph-Erich Hildebran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98108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reh" descr=""/>
          <p:cNvPicPr/>
          <p:nvPr/>
        </p:nvPicPr>
        <p:blipFill>
          <a:blip r:embed="rId2"/>
          <a:stretch/>
        </p:blipFill>
        <p:spPr>
          <a:xfrm>
            <a:off x="7265880" y="0"/>
            <a:ext cx="1878120" cy="1981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Wingdings 3" charset="2"/>
              <a:buChar char="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 3" charset="2"/>
              <a:buChar char="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Wingdings 3" charset="2"/>
              <a:buChar char="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4.wmf"/><Relationship Id="rId1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ine Einführung in die 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technischen Grundlagen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Differenzierungskurs Informatik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(Teil 1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Internet als W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Arial"/>
              </a:rPr>
              <a:t>Das Internet ist nämlich nichts weiter als ein sehr großes WAN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Arial"/>
              </a:rPr>
              <a:t>Daher wird das Internet auch oft als Netz von Netzwerken beschrieben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Arial"/>
              </a:rPr>
              <a:t>Es ist der größte Computer-Netzwerkverbund, der zur Zeit auf der Welt existiert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Internet-Anbindung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Analoges Telefon (Modem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Digitales Telefon (ISDN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A-DSL (TDSL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Analoge oder digitale Standleitung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Glasfaser High-Speed Leitung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T-DS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361960" y="1980720"/>
            <a:ext cx="6172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Drei Variant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T-DSL lite 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384 kBit/s Down 64 Up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T-DSL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786 kBit/s Down 128 Up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T-DSL 1500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1526 kBit/s Down 192 Up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Netzwerke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Netzwer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Arial"/>
              </a:rPr>
              <a:t>Das Internet ist weiter nichts als das zur Zeit größte Netzwerk der Welt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Arial"/>
              </a:rPr>
              <a:t>Das Internet verbindet eine riesige Anzahl von Computer-Netzwerken miteinander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Server und Cli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Arial"/>
              </a:rPr>
              <a:t>In einem Computer-Netzwerk gibt es meistens eine genau definierte Arbeitsteilung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Arial"/>
              </a:rPr>
              <a:t>Hosts (auch Server genannt): Rechner, die einen Dienst anbieten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Arial"/>
              </a:rPr>
              <a:t>Clients (oder auch Stationen), die einen Dienst in Anspruch nehme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iens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Arial"/>
              </a:rPr>
              <a:t>Es gibt eine große Anzahl von verschiedenen Computer-Anwendungen (oder Diensten), die ein Host anbieten kann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Arial"/>
              </a:rPr>
              <a:t>Deshalb existieren auch unterschiedliche Typen von Hosts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Host-Typ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90720" y="2362320"/>
          <a:ext cx="8839080" cy="358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362320"/>
                    <a:ext cx="88390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Local Area Network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Arial"/>
              </a:rPr>
              <a:t>In einem Netzwerk werden mehrere Computer mit Kabeln verbunden, damit sie miteinander kommunizieren und zugreifen könne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Arial"/>
              </a:rPr>
              <a:t>Ein solches Computer-Netzwerk wird oft LAN (Local Area Network) genann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L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905120" y="2133720"/>
            <a:ext cx="7021080" cy="3810600"/>
            <a:chOff x="1905120" y="2133720"/>
            <a:chExt cx="7021080" cy="3810600"/>
          </a:xfrm>
        </p:grpSpPr>
        <p:grpSp>
          <p:nvGrpSpPr>
            <p:cNvPr id="112" name=""/>
            <p:cNvGrpSpPr/>
            <p:nvPr/>
          </p:nvGrpSpPr>
          <p:grpSpPr>
            <a:xfrm>
              <a:off x="1905120" y="2133720"/>
              <a:ext cx="3656880" cy="914400"/>
              <a:chOff x="1905120" y="2133720"/>
              <a:chExt cx="3656880" cy="914400"/>
            </a:xfrm>
          </p:grpSpPr>
          <p:pic>
            <p:nvPicPr>
              <p:cNvPr id="1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5120" y="2133720"/>
                <a:ext cx="583920" cy="61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666880" y="2133720"/>
                <a:ext cx="583560" cy="61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28640" y="2133720"/>
                <a:ext cx="583920" cy="61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114440" y="2133720"/>
                <a:ext cx="583920" cy="61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209680" y="27435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971440" y="27435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733560" y="27435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419360" y="27435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09680" y="3048120"/>
                <a:ext cx="335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1905120" y="3429000"/>
              <a:ext cx="3656880" cy="914400"/>
              <a:chOff x="1905120" y="3429000"/>
              <a:chExt cx="3656880" cy="914400"/>
            </a:xfrm>
          </p:grpSpPr>
          <p:pic>
            <p:nvPicPr>
              <p:cNvPr id="12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5120" y="3429000"/>
                <a:ext cx="583920" cy="61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666880" y="3429000"/>
                <a:ext cx="583560" cy="61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428640" y="3429000"/>
                <a:ext cx="583920" cy="61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4440" y="3429000"/>
                <a:ext cx="583920" cy="61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2209680" y="40388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971440" y="40388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733560" y="40388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19360" y="40388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09680" y="4343400"/>
                <a:ext cx="335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1905120" y="4876920"/>
              <a:ext cx="3656880" cy="914400"/>
              <a:chOff x="1905120" y="4876920"/>
              <a:chExt cx="3656880" cy="914400"/>
            </a:xfrm>
          </p:grpSpPr>
          <p:pic>
            <p:nvPicPr>
              <p:cNvPr id="13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905120" y="4876920"/>
                <a:ext cx="583920" cy="61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666880" y="4876920"/>
                <a:ext cx="583560" cy="61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428640" y="4876920"/>
                <a:ext cx="583920" cy="61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114440" y="4876920"/>
                <a:ext cx="583920" cy="61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2209680" y="54867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971440" y="54867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733560" y="54867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419360" y="54867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209680" y="5791320"/>
                <a:ext cx="335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V="1">
              <a:off x="5562360" y="304812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62360" y="3276720"/>
              <a:ext cx="6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94240" y="5235840"/>
              <a:ext cx="1731960" cy="708480"/>
            </a:xfrm>
            <a:prstGeom prst="cloudCallout">
              <a:avLst>
                <a:gd name="adj1" fmla="val -76907"/>
                <a:gd name="adj2" fmla="val -24877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13"/>
            <a:stretch/>
          </p:blipFill>
          <p:spPr>
            <a:xfrm>
              <a:off x="6171840" y="2438280"/>
              <a:ext cx="703080" cy="123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Wide Area Network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Arial"/>
              </a:rPr>
              <a:t>Die einzelnen Computer müssen physikalisch miteinander verbunden werd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Arial"/>
              </a:rPr>
              <a:t>Das geschieht über Kab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Arial"/>
              </a:rPr>
              <a:t>Ist das räumlich nicht möglich, verwendet man das Telefonnetz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Arial"/>
              </a:rPr>
              <a:t>Dann spricht man von WA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08:23:39Z</dcterms:created>
  <dc:creator>Ralph-Erich Hildebrandt</dc:creator>
  <dc:description/>
  <dc:language>en-US</dc:language>
  <cp:lastModifiedBy>Ralph-Erich Hildebrandt</cp:lastModifiedBy>
  <dcterms:modified xsi:type="dcterms:W3CDTF">2004-02-18T13:28:49Z</dcterms:modified>
  <cp:revision>34</cp:revision>
  <dc:subject/>
  <dc:title>Internet</dc:title>
</cp:coreProperties>
</file>