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480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D33D-7591-4808-9CF0-C3187FF8FA2A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99240" y="6613560"/>
            <a:ext cx="683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4527-FDFE-4D2A-A816-EFFB6E72BCE4}" type="datetime">
              <a:rPr b="1" lang="de-DE" sz="1000" spc="-1" strike="noStrike">
                <a:solidFill>
                  <a:srgbClr val="ffffff"/>
                </a:solidFill>
                <a:latin typeface="Arial Rounded MT Bold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146880" y="312336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uchen im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 3" charset="2"/>
              <a:buChar char="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 3" charset="2"/>
              <a:buChar char="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3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uchen im 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fferenzierungskurs Informatik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Katalo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st von einer Redaktion erstell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nthält ca. 50.000 - 100.000 Webadress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st in Kategorien und Unterkategorien eingeteil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nthält meist nur die Homepag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sp. www.yahoo.d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sp. www.web.d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uchmasch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st eine von einem Programm (Spider, Robot) erstellte Linklist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nthält mehrere Millionen Link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nthält meist auch Hinweise zu Unterseit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sp. www.google.d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sp. www.lycos.d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sp. www.altavista.d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Metasuchmasch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ist eine Suchmaschine, die andere Kataloge und andere Suchmaschinen durchsuch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liefert damit mehr Treffer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sp. www.metager.d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sp. www.metacrawler.d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uchen im 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weiterte Suchstrategi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uchstrategi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uche nach allen Dokumenten, die eines der Wörter enthält (OR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uche nach allen Dokumenten, die alle Wörter enthält (AND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schränkungen nach Dokumentenart (Grafik, Sound, Datum, Sprache, Domain, Ort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uche nach Wortteil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Mit dem Platzhalter * kann nach Wortteilen gesucht werd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1200" y="33177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ing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78160" y="400356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ing, singer, singing, single, Singular, Singap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59960" y="4842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chul*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40160" y="5562720"/>
            <a:ext cx="51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chulung, Schulleitung, Schul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Logische Operation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9760" y="1981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1800" y="19810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terricht AND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9280" y="251460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+unterricht +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39160" y="31654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0720" y="31240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terricht OR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0000" y="36576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terricht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880" y="42670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terricht AND NOT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9640" y="48006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+unterricht -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9040" y="42670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9400" y="5410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5120" y="541008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terricht NEAR de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Zusammengesetzte Ausdrüc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89280" y="202248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Gerhard Schrö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80400" y="262584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Gerhard OR Schrö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8560" y="4156200"/>
            <a:ext cx="26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Gerhard Schröde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4720" y="49942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sucht genau danach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roß-/Kleinschreib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ei Kleinschreibung von Begriffen spielen Groß-/Kleinschreibung keine Roll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ei Großschreibung wird nur diejenigen Dokumente gefunden, die exakt der Schreibweise entsprich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roß-/Kleinschreib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89280" y="20224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goe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32840" y="277812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Goethe, goethe, GOETHE, goe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3680" y="39276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Goe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8680" y="48006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Goe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uchen im 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uchstrategi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Link-Tip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022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Die kleine Suchfi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3498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Times New Roman"/>
              </a:rPr>
              <a:t>http://www.suchfibel.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Rat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urch Raten kann man die URLs eines Angebotes bekomm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azu verwende man den Namen des Angebots, das man sucht als UR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Rat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42280" y="20988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einslive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1480" y="24796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bundesta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5480" y="36990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hambur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20440" y="468936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kaufhof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08960" y="56800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uni-duesseldorf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Rat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8520" y="19810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greenpeac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5880" y="27432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whitehouse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920" y="358128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harvar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6483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microsof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3600" y="55627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Times New Roman"/>
              </a:rPr>
              <a:t>www.netscap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Vor- und Nachteile von Rat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82440" y="194616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 Schneller Zugriff auf Server ohne zus. Mit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5200" y="286056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Probleme bei int.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9520" y="3699000"/>
            <a:ext cx="41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Unterangebote nicht auffind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1960" y="59436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Angebote häufig nicht unter dem direkten N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58720" y="468936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- krypt. Adressen von Privatserv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Raten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3480" y="327672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marvin.sn.schule.de/~inf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97200" y="205740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www.bildung.hessen.de/abereich/inform/skii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15960" y="434340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www.uni-karlsruhe.de/~za147/projekte/delphi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09400" y="556272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home.t-online.de/home/J.Krautz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uchen im 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uchhilfen im Interne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ezieltes Suc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Katalog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Suchmaschin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Metasuchmaschin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08:23:39Z</dcterms:created>
  <dc:creator>Ralph-Erich Hildebrandt</dc:creator>
  <dc:description/>
  <dc:language>en-US</dc:language>
  <cp:lastModifiedBy>Ralph-Erich Hildebrandt</cp:lastModifiedBy>
  <dcterms:modified xsi:type="dcterms:W3CDTF">2001-03-10T15:43:48Z</dcterms:modified>
  <cp:revision>55</cp:revision>
  <dc:subject/>
  <dc:title>Internet</dc:title>
</cp:coreProperties>
</file>