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4480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71AC-DAB3-4B38-A7E5-D261AAF2493B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2680" y="659124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27.02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238680" y="3057840"/>
            <a:ext cx="22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 Rounded MT Bold"/>
              </a:rPr>
              <a:t>HTML-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html/no14.html.tx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html/no14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html/no15.html.tx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html/no15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html/no12.html.tx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html/no12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html/no13.html.txt" TargetMode="External"/><Relationship Id="rId2" Type="http://schemas.openxmlformats.org/officeDocument/2006/relationships/image" Target="../media/image3.png"/><Relationship Id="rId3" Type="http://schemas.openxmlformats.org/officeDocument/2006/relationships/hyperlink" Target="file:///html/no13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 in HTML für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en Differenzierungskurs Informatik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er Stufe 9/10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Teil 2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Weitere Sonderzei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17840" y="1747800"/>
          <a:ext cx="5611680" cy="49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747800"/>
                    <a:ext cx="561168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ei eingestelltem russischem Zeichensatz ersetze die Umlaute durch Entiti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1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32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4600" y="5486400"/>
            <a:ext cx="511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Netscape zeigt das alles nicht richtig 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orizontale Lini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6200" y="1905120"/>
            <a:ext cx="912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1880" y="1828800"/>
            <a:ext cx="32850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Zeichnet eine horizontal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Trennli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1760" y="2819520"/>
            <a:ext cx="3972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chtung: zu </a:t>
            </a:r>
            <a:r>
              <a:rPr b="1" lang="de-DE" sz="2400" spc="-1" strike="noStrike">
                <a:solidFill>
                  <a:srgbClr val="ff3300"/>
                </a:solidFill>
                <a:latin typeface="Courier New"/>
              </a:rPr>
              <a:t>&lt;hr&gt;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gibt es kein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Courier New"/>
              </a:rPr>
              <a:t>&lt;/h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5920" y="2514600"/>
            <a:ext cx="23983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hr=horizont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7120" y="3887640"/>
          <a:ext cx="7332840" cy="28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3887640"/>
                    <a:ext cx="73328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Gliedere den Text (deutsch) mit Trennlinien zwischen den Absätz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xperimentiere mit den Attribut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3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44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9280" y="5486400"/>
            <a:ext cx="4292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Netscape kann das Color-Attribut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nicht darst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4: List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ufzählun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39760" y="1895400"/>
            <a:ext cx="43869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stext&lt;/li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...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69720" y="3886200"/>
            <a:ext cx="372096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rstellt eine unsortierte L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2720" y="5029200"/>
            <a:ext cx="47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Jeder Eintrag der Liste muss dabei in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&lt;li&gt;-Tags eingeschlossen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ufzählun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40840" y="1895400"/>
            <a:ext cx="2923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ul type="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 type="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1800" y="2971800"/>
            <a:ext cx="521892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as type-Attribut legt für die ganze List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oder für einen Eintrag den Typ des 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fzählungszeichens f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2360" y="4724280"/>
            <a:ext cx="4609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ögliche Werte: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sc (gefüllter Kreis - Standardwert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quare (gefülltes Quadrat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circle (offener Kre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Verschachtelte Aufzählun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98600" y="2895480"/>
            <a:ext cx="420408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 1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 2&lt;/li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&lt;ul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  &lt;li&gt;Eintrag 3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 4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67520" y="1828800"/>
            <a:ext cx="6672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tatt &lt;li&gt; kann innerhalb einer Aufzählung auch ein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eitere Aufzählung mit &lt;ul&gt; gestart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4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stelle die im Browser gezeigte Aufzählu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61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62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Nummerierte List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39760" y="1895400"/>
            <a:ext cx="43869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o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stext&lt;/li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...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o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69000" y="3886200"/>
            <a:ext cx="397548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rstellt eine nummerierte L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2720" y="5029200"/>
            <a:ext cx="47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Jeder Eintrag der Liste muss dabei in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&lt;li&gt;-Tags eingeschlossen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Nationale Sonderzei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92640" y="1981080"/>
            <a:ext cx="703872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HTML verwendet grundsätzlich den (amerikanischen)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SCII-Zeichensatz, der keine nationalen Sonderzeich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hä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8640" y="4343400"/>
            <a:ext cx="6793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Verwendet man dennoch nationale Sonderzeichen,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ie deutsche Umlaute, so hängt es von Zielsystem ab,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ie und ob diese angezeigt werd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Nummerierte Lis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0840" y="1895400"/>
            <a:ext cx="2923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ol type="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 type="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2520" y="2971800"/>
            <a:ext cx="617472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as type-Attribut legt für die ganze List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oder für einen Eintrag den Typ der Nummer f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2720" y="4114800"/>
            <a:ext cx="53211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ögliche Werte: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1: arabische Ziffern (1,2,3,4,5,...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: Großbuchstaben (A,B,C,D,E,...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: Kleinbuchstaben (a,b,c,d,e,...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: große römische Ziffern (I,II,III,IV,V,...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: kleine römische Ziffern (i,ii,iii,iv,v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Nummerierte Lis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40480" y="1895400"/>
            <a:ext cx="3289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ol start="W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2160" y="2971800"/>
            <a:ext cx="505908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as start-Atrribut legt den Startwert der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nummerierten Liste f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0560" y="4114800"/>
            <a:ext cx="4676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Z.B. beginnt &lt;ol start="6" type="I"&gt;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dem Startwert VI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4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stelle die im Browser gezeigte Aufzählu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Ändere die Typen in alle möglichen Varianten ab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Lasse die Liste mit der römischen Zahl XIV beginn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77" name="NEW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78" name="netscapelogo" descr=""/>
          <p:cNvPicPr/>
          <p:nvPr/>
        </p:nvPicPr>
        <p:blipFill>
          <a:blip r:embed="rId2"/>
          <a:stretch/>
        </p:blipFill>
        <p:spPr>
          <a:xfrm>
            <a:off x="1523880" y="5791320"/>
            <a:ext cx="7048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5: Grafik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Einbinden von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39400" y="1895400"/>
            <a:ext cx="4935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 der Grafik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3160" y="2819520"/>
            <a:ext cx="29786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Bindet eine Grafik 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1880" y="3962520"/>
            <a:ext cx="435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r img-Tag hat keinen End-Ta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0800" y="4800600"/>
            <a:ext cx="671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ofern keine vollständige URL angegeben wird, wird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Grafikdatei im gleichen Verzeichnis erwartet wi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HTML-Dat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Einbinden von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39760" y="1895400"/>
            <a:ext cx="4386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flasche.jp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74960" y="2666880"/>
            <a:ext cx="5250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Ein Beispiel zum Einbinden einer Graf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90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103720" y="5943600"/>
            <a:ext cx="371808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© der Grafiken Herdt Ver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Einbinden von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1895400"/>
            <a:ext cx="4386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flasche.jp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71000" y="2666880"/>
            <a:ext cx="699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Fehlt die Grafikdatei, wird ein Fehlerzeichen angezei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96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lternativtext bei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39400" y="1895400"/>
            <a:ext cx="4935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alt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0880" y="2666880"/>
            <a:ext cx="592308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r Alternativtext wird angezeigt, wenn die 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Grafikanzeige ausgeschaltet ist oder die Grafik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nicht angezeigt wer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01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ößenangaben bei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38680" y="1895400"/>
            <a:ext cx="54842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height="Wert" 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width="W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0080" y="3048120"/>
            <a:ext cx="656172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ie Werte height und width geben die Höhe und di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Breite der Grafik in Pixel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06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902240" y="4267080"/>
            <a:ext cx="6705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diesen Angaben kann der Browser HTML-Seiten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.d.R. schneller la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Rahmen bei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38680" y="1895400"/>
            <a:ext cx="5484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border="W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98280" y="3048120"/>
            <a:ext cx="685296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s wird ein Rahmen in der entsprechenden Pixelstärk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um das Bild gez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12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ISO-Zeichensat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93000" y="1981080"/>
            <a:ext cx="741204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it Hilfe der ISO-Zeichensätze kann ein gesamtes HTML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okument auf einen spezifischen nationalen Zeichensatz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gestell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96840" y="4343400"/>
            <a:ext cx="5910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Einstellung erfolgt im &lt;head&gt;-Bereich des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HTML-Dok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 und Beschriftu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37960" y="1895400"/>
            <a:ext cx="6581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align="Ausrichtun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97920" y="3048120"/>
            <a:ext cx="61182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Mit dem align-Attribut wird die Ausrichtung der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Grafik zum nachfolgenden Text bestimm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17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48320" y="4800600"/>
            <a:ext cx="3962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top: am oberen Bild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ddle: in der Bildm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bottom: am unteren Bild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 und Beschriftu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96600" y="1981080"/>
            <a:ext cx="745920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align=texttop richten Sie den Beschriftungstext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obenbündig zur Grafik aus, und zwar an der Oberkante des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kleinsten folgenden Textes (texttop = oben am Tex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align=absmiddle richten Sie den Beschriftungstext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bsolut mittig zur Grafik aus, auch bei unterschiedlichen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Textgrößen (absmiddle = absolute middle = in jedem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Fall mitti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align=absbottom richten Sie den Beschriftungstext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ntenbündig zur Grafik aus, und zwar an der Unterkante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s kleinsten folgenden Textes (absbottom = absolut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bottom = in jedem Fall untenbündi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26720" y="6335640"/>
            <a:ext cx="24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us: Selfhtml von Stefan Mü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 und Abstän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37960" y="1895400"/>
            <a:ext cx="62157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hspace="Wert" 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vspace="Wert" align="left|righ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5760" y="3048120"/>
            <a:ext cx="54752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Plaziert die Grafik mit umfließendem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26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896120" y="3809880"/>
            <a:ext cx="68313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hspace- und vspace-Attribute bestimmen hierbei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n Abstand der Grafik vom Text.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s align-Attribut bestimmt, ob die Grafik rechts oder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links vom Text st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form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524200" y="1981080"/>
            <a:ext cx="3009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GIF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JPG (JPEG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PNG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1981080"/>
            <a:ext cx="2438280" cy="265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In HTML-Dateien sind nur drei Grafikformate erlaubt. Das dritte sogar erst seit der 4er-Generation der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823760" y="4952880"/>
            <a:ext cx="6817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r Internet-Explorer zeigt jedes in den Registrierung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ngemeldete Grafikformat an (z.B. BMP), obwohl das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keine Internet-Standards si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781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stelle eine HTML mit einem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teckbrief von dir und deinem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Nachbar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e Bilder werden mit der Digitalkamera aufgenomm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6: Hyper-Link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rverweis setz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080" y="1828800"/>
            <a:ext cx="45698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URL des Ziels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Hyperlinkstext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37440" y="3200400"/>
            <a:ext cx="476784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einen Hyper-Link mit dem Text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f die URL des Zi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77120" y="4572000"/>
            <a:ext cx="6714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ofern keine vollständige URL angegeben wird, wird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s Ziel im gleichen Verzeichnis erwartet wi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HTML-Datei, die es aufruft. Es können absolut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nd relative Pfade als URL gesetz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Verlinke die beiden Steckbrief-Dateien miteinander, so dass sie sich gegenseitig aufruf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Zielfens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4480" y="1981080"/>
            <a:ext cx="7130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URL" target="Fenster"&gt;...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47680" y="4114800"/>
            <a:ext cx="6784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ögliche Werte: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name": neues Fenster mit dem Namen nam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_blank": öffnet ein neues unbenanntes Fenster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_parent": Anzeige im übergeordneten Fenster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_top": Anzeige ersetzt komplett den Browser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_self": Anzeige im gleichen Fenster (Voreinstell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96480" y="2743200"/>
            <a:ext cx="616248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as target-Attribut bestimmt das Fenster, in dem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ie Zieldatei angezeigt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Probiere bei den Hyperlinks zwischen den beiden Steckbriefen die Varianten des target-Attributs au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ISO-Zeichensät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38320" y="1895400"/>
            <a:ext cx="585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meta http-equiv="Content-Type"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content="text/html; 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charset=iso-8859-1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1400" y="3581280"/>
            <a:ext cx="32670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en des Zeichensatze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f Westeuropä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75680" y="4952880"/>
            <a:ext cx="5472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Zwischen text/html und charset und vor iso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ürfen keine " steh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nk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27000" y="1981080"/>
            <a:ext cx="4204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name="Ankername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Text des Sprungziels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3840" y="3581280"/>
            <a:ext cx="37850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finieren eines Sprungzi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57800" y="4943520"/>
            <a:ext cx="530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name="kap1"&gt;Kapitel 1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uf Anker verweis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25560" y="1981080"/>
            <a:ext cx="5850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URL#Ankername"&gt;...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97880" y="3505320"/>
            <a:ext cx="503784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nspringen des Ankes in einer fremden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URL oder innerhalb der gleichen Dat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9560" y="4952880"/>
            <a:ext cx="7495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#kap1"&gt;Zu Kapitel 1&lt;/a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test.htm#kap1"&gt;Zu Kapitel 1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6280" y="2666880"/>
            <a:ext cx="5301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#Ankername"&gt;...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etze einen Anker beim zweiten Wort des zweiten Absatzes des Zauberlehrling-Textes und verweise darauf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Verweis auf EMail-Adres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6640" y="1981080"/>
            <a:ext cx="4752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mailto:Adresse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Hyperlinktext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2480" y="3505320"/>
            <a:ext cx="535608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Verweist auf die EMail-Adresse, so das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tomatisch der Mail-Client geöffnet wird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mit dieser Mailadre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1000" y="4952880"/>
            <a:ext cx="585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mailto:micky@maus.de"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ile an Mick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Optionen für EMai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4920" y="1981080"/>
            <a:ext cx="766908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mailto:Adresse?subject=Betreff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Hyperlinktext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90680" y="3505320"/>
            <a:ext cx="49248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die Betreffzeile im EMail-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5920" y="4648320"/>
            <a:ext cx="5484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mailto:micky@maus.d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?subject=Fan-Post"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ile an Mick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Optionen für EMai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74920" y="1981080"/>
            <a:ext cx="7669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mailto:Adresse?cc=Adresse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Hyperlinktext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93200" y="3505320"/>
            <a:ext cx="497376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eine cc-Adresse im EMail-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5920" y="4648320"/>
            <a:ext cx="56671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mailto:micky@maus.d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?cc=donald@duck.com"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ile an Micky &amp;amp; an Donald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gänze die Steckbriefe um Links zu dem jeweiligen Mailadress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 als Hyper-Lin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6640" y="1981080"/>
            <a:ext cx="45698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URL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&lt;img src="Linkgrafik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91400" y="3505320"/>
            <a:ext cx="56016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einen Grafik-Link statt einem Text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9560" y="4952880"/>
            <a:ext cx="7313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test.htm"&gt;&lt;img src="test.gif"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enutze eine verkleinerte Darstellung des Bildes (60x60 Pixel) als Link zur anderen Steckbrief-Datei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Linkfarben änder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5560" y="1981080"/>
            <a:ext cx="60328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ody link="Farbe" vlink="Farbe"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alink="Farb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3240" y="3200400"/>
            <a:ext cx="583632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die Linkfarbe, die Farbe besuchter Link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und die Farbe aktiver Links für das Dokument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n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77840" y="4952880"/>
            <a:ext cx="6215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body link="red" vlink="fuchsia"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alink="yellow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ISO-Zeichensät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7120" y="1827360"/>
          <a:ext cx="7358040" cy="43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827360"/>
                    <a:ext cx="735804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Weitere Farben änder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5200" y="1981080"/>
            <a:ext cx="6581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ody bgcolor="Farbe" text="Farb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2520" y="3200400"/>
            <a:ext cx="59202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Ändert die Hintergrundfarbe und die Textfarb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s HTML-Dok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77480" y="4952880"/>
            <a:ext cx="658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body bgcolor="black" text="whit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Verändere die Farben des HTML-Dokuments einschl. der Linkfarb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gänze den Zauberlehrling-Text um den Meta-Tag für "Deutsch"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üge dann eine Zeile mit Umlauten als neuen Absatz hinzu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2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13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n "Russisch" an, in dem du den Zeichensatz auf ISO-8859-5 stell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16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17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Entit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94080" y="1981080"/>
            <a:ext cx="712116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urch spezielle HTML-Codes können nationale Zeich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d andere Sonderzeichen eingestell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600" y="4191120"/>
            <a:ext cx="3655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amp;Sonderzeichenc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Deutsche Sonderzei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47920" y="1747800"/>
          <a:ext cx="4371840" cy="249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47800"/>
                    <a:ext cx="43718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449600" y="4670280"/>
          <a:ext cx="4357800" cy="204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9600" y="4670280"/>
                    <a:ext cx="435780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7:42:46Z</dcterms:created>
  <dc:creator>Ralph-Erich Hildebrandt</dc:creator>
  <dc:description/>
  <dc:language>en-US</dc:language>
  <cp:lastModifiedBy>Ralph-Erich Hildebrandt</cp:lastModifiedBy>
  <dcterms:modified xsi:type="dcterms:W3CDTF">2001-06-18T14:14:23Z</dcterms:modified>
  <cp:revision>111</cp:revision>
  <dc:subject/>
  <dc:title>HTML-Grundlagen</dc:title>
</cp:coreProperties>
</file>