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44888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35800" y="19810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36196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44888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35800" y="4409280"/>
            <a:ext cx="1987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4560" y="44092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4560" y="1981080"/>
            <a:ext cx="30117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409280"/>
            <a:ext cx="6172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71600" y="160020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6440" y="6095880"/>
            <a:ext cx="121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4421-B4FA-4DEB-A6C7-635EA30CC29A}" type="slidenum">
              <a:rPr b="1" lang="de-DE" sz="1600" spc="-1" strike="noStrike">
                <a:solidFill>
                  <a:srgbClr val="660066"/>
                </a:solidFill>
                <a:latin typeface="Arial Rounded MT Bold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2680" y="659124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18.06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-238680" y="3057840"/>
            <a:ext cx="22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 Rounded MT Bold"/>
              </a:rPr>
              <a:t>HTML-Grundl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28600" y="5791320"/>
            <a:ext cx="838080" cy="761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920"/>
            <a:ext cx="4572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57200"/>
            <a:ext cx="45720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480"/>
            <a:ext cx="457200" cy="45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35812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1119600" y="315324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Rounded MT Bold"/>
              </a:rPr>
              <a:t>Ralph-Erich Hildebran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81080"/>
            <a:ext cx="7772400" cy="0"/>
          </a:xfrm>
          <a:prstGeom prst="line">
            <a:avLst/>
          </a:prstGeom>
          <a:ln w="63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h" descr=""/>
          <p:cNvPicPr/>
          <p:nvPr/>
        </p:nvPicPr>
        <p:blipFill>
          <a:blip r:embed="rId2"/>
          <a:stretch/>
        </p:blipFill>
        <p:spPr>
          <a:xfrm>
            <a:off x="7265880" y="0"/>
            <a:ext cx="1878120" cy="1981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Wingdings" charset="2"/>
              <a:buChar char="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html/no2.html.txt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html/no2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html/no3.html.txt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html/no3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html/no4.html.txt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html/no4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html/no5.html.txt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html/no5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html/no6.html.txt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html/no6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html/no7.html.txt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html/no7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html/no8.html.txt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html/no8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html/no9.html.txt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html/no9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html/no10.html.txt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html/no10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html/no1.html.txt" TargetMode="External"/><Relationship Id="rId2" Type="http://schemas.openxmlformats.org/officeDocument/2006/relationships/image" Target="../media/image2.png"/><Relationship Id="rId3" Type="http://schemas.openxmlformats.org/officeDocument/2006/relationships/hyperlink" Target="file:///html/no1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 Einführung in HTML für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en Differenzierungskurs Informatik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er Stufe 9/10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ufgabe 1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63800" y="2048040"/>
            <a:ext cx="402120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IT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Ein erstes Dok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TIT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Ein erst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1280" y="5410080"/>
            <a:ext cx="409860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Ergänze das HTML-Dokument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entsprechend zu uebung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chaue es dir im Browser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33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paltenbrei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668240" y="2286000"/>
            <a:ext cx="72428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teht in der Tabelle ein größeres Objekt, z.B. eine Grafik,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nn wird dafür auf jeden Fall genug Platz reserviert und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anderen Spalten automatisch verkleinert.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Entsprechende Angaben im width-Attribut sind dann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nwirks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NEW" descr=""/>
          <p:cNvPicPr/>
          <p:nvPr/>
        </p:nvPicPr>
        <p:blipFill>
          <a:blip r:embed="rId1"/>
          <a:stretch/>
        </p:blipFill>
        <p:spPr>
          <a:xfrm>
            <a:off x="6858000" y="5486400"/>
            <a:ext cx="762120" cy="730080"/>
          </a:xfrm>
          <a:prstGeom prst="rect">
            <a:avLst/>
          </a:prstGeom>
          <a:ln w="0">
            <a:noFill/>
          </a:ln>
        </p:spPr>
      </p:pic>
      <p:pic>
        <p:nvPicPr>
          <p:cNvPr id="482" name="netscapelogo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7048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Zellen ausricht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25920" y="1981080"/>
            <a:ext cx="566712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d valign="top|middle|bottom"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align="left|center|right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94640" y="3886200"/>
            <a:ext cx="5766120" cy="1922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Mit dem valign-Attribut wird die vertikal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und mit dem align-Attribut die horizontal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usrichtung festgelegt. Als Attribut von &lt;td&gt;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gilt es für eine Zelle, als Attribut von &lt;tr&gt; für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eine ganze Ze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NEW" descr=""/>
          <p:cNvPicPr/>
          <p:nvPr/>
        </p:nvPicPr>
        <p:blipFill>
          <a:blip r:embed="rId1"/>
          <a:stretch/>
        </p:blipFill>
        <p:spPr>
          <a:xfrm>
            <a:off x="182880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487" name="netscapelogo" descr=""/>
          <p:cNvPicPr/>
          <p:nvPr/>
        </p:nvPicPr>
        <p:blipFill>
          <a:blip r:embed="rId2"/>
          <a:stretch/>
        </p:blipFill>
        <p:spPr>
          <a:xfrm>
            <a:off x="1905120" y="5029200"/>
            <a:ext cx="7048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2: Text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2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172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Gib den HTML-Text so ein, wie er im Edit-Fenster erschein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8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39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bsätze und Umbrüc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41560" y="1895400"/>
            <a:ext cx="2009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p&gt;...&lt;/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87160" y="1870200"/>
            <a:ext cx="325008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Umschließt einen Ab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4800" y="3352680"/>
            <a:ext cx="912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4080" y="3276720"/>
            <a:ext cx="299556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Liefert eine neue Zeil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innerhalb des Absat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4400" y="4419720"/>
            <a:ext cx="3972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chtung: zu </a:t>
            </a:r>
            <a:r>
              <a:rPr b="1" lang="de-DE" sz="2400" spc="-1" strike="noStrike">
                <a:solidFill>
                  <a:srgbClr val="ff3300"/>
                </a:solidFill>
                <a:latin typeface="Courier New"/>
              </a:rPr>
              <a:t>&lt;br&gt;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gibt es kein</a:t>
            </a:r>
            <a:br>
              <a:rPr sz="2400"/>
            </a:br>
            <a:r>
              <a:rPr b="1" lang="de-DE" sz="2400" spc="-1" strike="noStrike">
                <a:solidFill>
                  <a:srgbClr val="ff3300"/>
                </a:solidFill>
                <a:latin typeface="Courier New"/>
              </a:rPr>
              <a:t>&lt;/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200" y="2556000"/>
            <a:ext cx="17262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p=para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3962520"/>
            <a:ext cx="12855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br=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2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2481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Gliedere den Zauberlehrlingtext so, dass er durch Absätze und Zeilenumbrüche gegliedert wird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0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51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ttribute von Ta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172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Attribute von Tags dienen dazu, spezielle Angaben zur Formatierung des Tags zu mach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40680" y="4495680"/>
            <a:ext cx="530136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urier New"/>
              </a:rPr>
              <a:t>&lt;TAG Attribut=Wert&gt;...&lt;/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Unterschiedliche Attrib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7120" y="1827360"/>
          <a:ext cx="7540560" cy="437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827360"/>
                    <a:ext cx="754056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bsatzausrichtun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87480" y="1895400"/>
            <a:ext cx="4386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p align="left"&gt;...&lt;/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69840" y="232740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nksbündiger Ab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78920" y="3048120"/>
            <a:ext cx="4752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p align="center"&gt;...&lt;/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0200" y="347976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ntrierter Ab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5240" y="4114800"/>
            <a:ext cx="45698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p align="right"&gt;...&lt;/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7600" y="45464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chtsbündiger Ab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1200" y="5257800"/>
            <a:ext cx="4935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p align="justify"&gt;...&lt;/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3200" y="56894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satz im Block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3320" y="2514600"/>
            <a:ext cx="305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Voreinstellung für </a:t>
            </a:r>
            <a:r>
              <a:rPr b="1" lang="de-DE" sz="2400" spc="-1" strike="noStrike">
                <a:solidFill>
                  <a:srgbClr val="ff3300"/>
                </a:solidFill>
                <a:latin typeface="Courier New"/>
              </a:rPr>
              <a:t>&lt;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2.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248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Formatiere den Zauberlehrling-Text so, dass die Überschrift zentriert und der letzte Absatz rechtsbündig is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70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71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erschrift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41560" y="1895400"/>
            <a:ext cx="2375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x&gt;...&lt;/hx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85720" y="1870200"/>
            <a:ext cx="33368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efiniert eine Übersch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41560" y="2556000"/>
            <a:ext cx="131904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h=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37600" y="3317760"/>
            <a:ext cx="527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Für x sind die Werte von 1 bis 6 zulässi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809880"/>
            <a:ext cx="2375280" cy="2288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lso: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Courier New"/>
              </a:rPr>
              <a:t>&lt;h1&gt;...&lt;/h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urier New"/>
              </a:rPr>
              <a:t>&lt;h2&gt;...&lt;/h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urier New"/>
              </a:rPr>
              <a:t>&lt;h3&gt;...&lt;/h3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urier New"/>
              </a:rPr>
              <a:t>&lt;h6&gt;...&lt;/h6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1: Grundlegend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2.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248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Formatiere den Zauberlehrling-Text so, dass die Überschrift in der Grösse 2 erfolgt!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80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81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Komment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41560" y="1895400"/>
            <a:ext cx="2009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!--...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85360" y="1870200"/>
            <a:ext cx="35564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efiniert einen Kom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35080" y="2708280"/>
            <a:ext cx="6523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lles, was zwischen den Kommentarklamm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teht, wird bei der Interpretation durch den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gnor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3: Textformatierung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Physische Textauszeichnu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527120" y="1747800"/>
          <a:ext cx="7305840" cy="51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747800"/>
                    <a:ext cx="730584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3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248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stelle eine neue HTML-Datei, die folgenden Text zeig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93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94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126520" y="3581280"/>
            <a:ext cx="629496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stellte 1905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1915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die </a:t>
            </a:r>
            <a:r>
              <a:rPr b="0" lang="de-DE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lgemei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Relativitätstheori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E=mc</a:t>
            </a:r>
            <a:r>
              <a:rPr b="0" lang="de-DE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u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38098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Kombination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172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Physische Auszeichnungen können auch kombiniert werd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abei ist immer die zuletzt geöffnete auch als erste wieder zu schließ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5040" y="4876920"/>
            <a:ext cx="603288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urier New"/>
              </a:rPr>
              <a:t>&lt;b&gt;&lt;i&gt;&lt;u&gt;Fetter kursiver 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Courier New"/>
              </a:rPr>
              <a:t>unterstrichener Text&lt;/u&gt;&lt;/i&gt;&lt;/b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5040" y="5867280"/>
            <a:ext cx="60328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urier New"/>
              </a:rPr>
              <a:t>&lt;b&gt;&lt;i&gt;&lt;u&gt;Fetter kursiver 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Courier New"/>
              </a:rPr>
              <a:t>unterstrichener Text&lt;/b&gt;&lt;/u&gt;&lt;/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438280" y="5866920"/>
            <a:ext cx="6019920" cy="838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438280" y="5866920"/>
            <a:ext cx="6019920" cy="838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lltex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41200" y="1895400"/>
            <a:ext cx="2741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pre&gt;...&lt;/pr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87880" y="1870200"/>
            <a:ext cx="19958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Quelltext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34000" y="2708280"/>
            <a:ext cx="7006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lles, was zwischen den beiden pre-Tags steht, wird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wiedergegeben, wie er urspünglich formatiert war, also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z.B. inklusive Einrückungen und Absätz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Einrückun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39040" y="1895400"/>
            <a:ext cx="5301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blockquote&gt;...&lt;/blockquo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49280" y="2666880"/>
            <a:ext cx="323316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Zitate werden eingerüc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44920" y="4343400"/>
            <a:ext cx="71240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rsprünglich war der blockquote-Tag für Zitate gedacht.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 die Browser diesen Text aber einrücken, kann man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blockquote auch dafür verwe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ehrere Einrückungen kann man durch mehrfach in-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nder geschachtelte blockquote-Abschnitte errei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3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5867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Formatiere den Zauberlehrling so, dass der erste Absatz als pre-Abschnitt und der zweite Absatz als blockquote-Abschnitt formatiert is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13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214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chrift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40840" y="1895400"/>
            <a:ext cx="3106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font&gt;...&lt;/fo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1800" y="2666880"/>
            <a:ext cx="33170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uswahl von Schriftar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0680" y="4343400"/>
            <a:ext cx="69411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b der HTML-Version 3.2 können auch Schriftgrößen,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chriftarten oder Schriftfarben für Texte festgelegt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werden.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n neuerer Zeit wird allerdings für eine Trennung von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nhalt und Formatierung (CSS) pläd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Benötigte Softw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n Texteditor, z.B. Microsoft Notepad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inen Browser, z.B. Netscape Navigator oder Microsoft Internet-Explorer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chriftgröß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39040" y="1895400"/>
            <a:ext cx="5301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font size="Wert"&gt;...&lt;/fo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0000" y="2666880"/>
            <a:ext cx="34542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Verändert die Schriftgröß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47680" y="4038480"/>
            <a:ext cx="6377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Für Werte ist folgendes zulässig: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1...7: bestimmt die absolute Schriftgröße (1=kle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-2...+4: bestimmt die relative Schriftgröss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            zur Standardgröße (Wert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3.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Formatiere "Hexenmeister" mit +2, Geister mit 5, Werke mit +1, Geistesstärke mit 4 und den 2. Absatz mit 2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25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226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chrif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38320" y="1895400"/>
            <a:ext cx="5850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font face="Schrift"&gt;...&lt;/fo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49280" y="2666880"/>
            <a:ext cx="308232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Verändert die Schrif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2000" y="4038480"/>
            <a:ext cx="63162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Es kann eine Schriftart in Anführungsstrichen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ngegeben werden. Mehrere Schriftarten können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uch durch Kommata getrennt angegeben werden.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se werden dann in der Reihenfolge nach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Verfügbarkeit verwen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chrif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6705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etze die Schriftarten immer in Anführungszeich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Verwende für unterschiedliche Systeme immer Dreierkombinationen von Schrift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Verwende nur die vier Familien SansSerif, Serif, Mono und Symbo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chrif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27120" y="1827360"/>
          <a:ext cx="7437600" cy="39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827360"/>
                    <a:ext cx="74376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3.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Formatiere "Hexenmeister" mit serif, Geister mit sans-serif, Geistesstärke mit mono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38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239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chriftfar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38680" y="1895400"/>
            <a:ext cx="5484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font color="Wert"&gt;...&lt;/fo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49280" y="2666880"/>
            <a:ext cx="33872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Verändert die Schriftfa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48400" y="4038480"/>
            <a:ext cx="6144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Schriftfarbe wird entweder durch einen vor-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finierten Farbnamen oder durch eine 6-stellig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Hexadezimalzahl im RGB-Farbcode angege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chriftfar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062080" y="1827360"/>
          <a:ext cx="6185160" cy="302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827360"/>
                    <a:ext cx="6185160" cy="30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chriftfarb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29240" y="1981080"/>
            <a:ext cx="5232960" cy="155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RGB-Code: #RRGG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rstes Paar von 00 bis FF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Rotant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weites Paar von 00 bis FF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Grünant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ittes Paar von 00 bis FF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Blauant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03680" y="4343400"/>
            <a:ext cx="66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Browser können nur 216 reine Farben darstellen,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jeweils die Farbcodes 00,33,66,99,CC und FF ha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llgemeine Farbänderun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5560" y="1976400"/>
            <a:ext cx="63849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body bgcolor="Farbe" text="Farbe</a:t>
            </a:r>
            <a:r>
              <a:rPr b="1" lang="de-DE" sz="2400" spc="-1" strike="noStrike">
                <a:solidFill>
                  <a:srgbClr val="ffff66"/>
                </a:solidFill>
                <a:latin typeface="Times New Roman"/>
              </a:rPr>
              <a:t>"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link="Farb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2880" y="3200400"/>
            <a:ext cx="599616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Ändert die Hintergrundfarbe, die Textfarbe und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ie Farbe der Links des HTML-Dok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78200" y="4948200"/>
            <a:ext cx="6384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body bgcolor="black" text="whit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link=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Dokumen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172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HTML-Dateien sind normale ASCII-Textdokumente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ie müssen die Dateinamenserweiterung *.htm oder *.html hab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3300"/>
                </a:solidFill>
                <a:latin typeface="Times New Roman"/>
              </a:rPr>
              <a:t>Achtung: Notepad hängt normalerweise immer *.txt a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3.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5867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Formatiere "Hexenmeister" mit rot, Geister mit dunkelblau, Geistesstärke mit dunkelgrü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56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257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Nationale Sonderzei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92640" y="1981080"/>
            <a:ext cx="703872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HTML verwendet grundsätzlich den (amerikanischen)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SCII-Zeichensatz, der keine nationalen Sonderzeich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hä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98640" y="4343400"/>
            <a:ext cx="6793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Verwendet man dennoch nationale Sonderzeichen,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wie deutsche Umlaute, so hängt es von Zielsystem ab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wie und ob diese angezeigt werd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ISO-Zeichensatz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93000" y="1981080"/>
            <a:ext cx="741204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Mit Hilfe der ISO-Zeichensätze kann ein gesamtes HTML-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okument auf einen spezifischen nationalen Zeichensatz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gestell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96840" y="4343400"/>
            <a:ext cx="5910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Einstellung erfolgt im &lt;head&gt;-Bereich des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HTML-Dok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ISO-Zeichensät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38320" y="1895400"/>
            <a:ext cx="5850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meta http-equiv="Content-Type"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content="text/html; 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charset=iso-8859-1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1400" y="3581280"/>
            <a:ext cx="326700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en des Zeichensatzes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uf Westeuropä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75680" y="4952880"/>
            <a:ext cx="5472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Zwischen text/html und charset und vor iso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ürfen keine " steh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ISO-Zeichensät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527120" y="1827360"/>
          <a:ext cx="7358040" cy="439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827360"/>
                    <a:ext cx="735804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Entit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94080" y="1981080"/>
            <a:ext cx="712116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urch spezielle HTML-Codes können nationale Zeich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d andere Sonderzeichen eingestell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1600" y="4191120"/>
            <a:ext cx="3655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amp;Sonderzeichencod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Deutsche Sonderzei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447920" y="1747800"/>
          <a:ext cx="4371840" cy="249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47800"/>
                    <a:ext cx="43718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449600" y="4670280"/>
          <a:ext cx="4357800" cy="2049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9600" y="4670280"/>
                    <a:ext cx="435780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Weitere Sonderzeich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517840" y="1747800"/>
          <a:ext cx="5611680" cy="49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7840" y="1747800"/>
                    <a:ext cx="561168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3.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ei eingestelltem russischem Zeichensatz ersetze die Umlaute durch Entiti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84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285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4600" y="5486400"/>
            <a:ext cx="511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Netscape zeigt das alles nicht richtig a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orizontale Lini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6200" y="1905120"/>
            <a:ext cx="912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1880" y="1828800"/>
            <a:ext cx="328500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Zeichnet eine horizontal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Trennli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721760" y="2819520"/>
            <a:ext cx="3972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chtung: zu </a:t>
            </a:r>
            <a:r>
              <a:rPr b="1" lang="de-DE" sz="2400" spc="-1" strike="noStrike">
                <a:solidFill>
                  <a:srgbClr val="ff3300"/>
                </a:solidFill>
                <a:latin typeface="Courier New"/>
              </a:rPr>
              <a:t>&lt;hr&gt;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gibt es kein</a:t>
            </a:r>
            <a:br>
              <a:rPr sz="2400"/>
            </a:br>
            <a:r>
              <a:rPr b="1" lang="de-DE" sz="2400" spc="-1" strike="noStrike">
                <a:solidFill>
                  <a:srgbClr val="ff3300"/>
                </a:solidFill>
                <a:latin typeface="Courier New"/>
              </a:rPr>
              <a:t>&lt;/h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25920" y="2514600"/>
            <a:ext cx="23983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3300"/>
                </a:solidFill>
                <a:latin typeface="Times New Roman"/>
              </a:rPr>
              <a:t>hr=horizontal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527120" y="3887640"/>
          <a:ext cx="7332840" cy="28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3887640"/>
                    <a:ext cx="733284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a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6172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enen zur Markierung von HTML-Befehl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ind (fast) immer ein Paar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7000" y="4308480"/>
            <a:ext cx="271836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angstag: &lt;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040" y="4343400"/>
            <a:ext cx="239652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detag: &lt;/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4520" y="5334120"/>
            <a:ext cx="299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8000"/>
                </a:solidFill>
                <a:latin typeface="Times New Roman"/>
              </a:rPr>
              <a:t>Beispiel: &lt;B&gt;Fett&lt;/B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3.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400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Gliedere den Text (deutsch) mit Trennlinien zwischen den Absätz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xperimentiere mit den Attribut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96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297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3959280" y="5486400"/>
            <a:ext cx="4292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Netscape kann das Color-Attribut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nicht darstel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4: List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ufzählun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39760" y="1895400"/>
            <a:ext cx="438696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&gt;Eintragstext&lt;/li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...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69720" y="3886200"/>
            <a:ext cx="372096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Erstellt eine unsortierte L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2720" y="5029200"/>
            <a:ext cx="4786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Jeder Eintrag der Liste muss dabei in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&lt;li&gt;-Tags eingeschlossen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ufzählun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40840" y="1895400"/>
            <a:ext cx="29239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ul type="A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 type="A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1800" y="2971800"/>
            <a:ext cx="521892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as type-Attribut legt für die ganze List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oder für einen Eintrag den Typ des 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ufzählungszeichens f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052360" y="4724280"/>
            <a:ext cx="46094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ögliche Werte: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sc (gefüllter Kreis - Standardwert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quare (gefülltes Quadrat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circle (offener Kre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Verschachtelte Aufzählun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98600" y="2895480"/>
            <a:ext cx="420408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&gt;Eintrag 1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&gt;Eintrag 2&lt;/li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&lt;ul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  &lt;li&gt;Eintrag 3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&gt;Eintrag 4&lt;/l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u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520" y="1828800"/>
            <a:ext cx="6672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tatt &lt;li&gt; kann innerhalb einer Aufzählung auch ein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weitere Aufzählung mit &lt;ul&gt; gestart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4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stelle die im Browser gezeigte Aufzählu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314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315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Nummerierte List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39760" y="1895400"/>
            <a:ext cx="438696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o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&gt;Eintragstext&lt;/li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...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o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69000" y="3886200"/>
            <a:ext cx="397548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Erstellt eine nummerierte L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2720" y="5029200"/>
            <a:ext cx="4786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Jeder Eintrag der Liste muss dabei in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&lt;li&gt;-Tags eingeschlossen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Nummerierte Lis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40840" y="1895400"/>
            <a:ext cx="29239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ol type="A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li type="A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2520" y="2971800"/>
            <a:ext cx="617472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as type-Attribut legt für die ganze List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oder für einen Eintrag den Typ der Nummer f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2720" y="4114800"/>
            <a:ext cx="53211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ögliche Werte: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1: arabische Ziffern (1,2,3,4,5,...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: Großbuchstaben (A,B,C,D,E,...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: Kleinbuchstaben (a,b,c,d,e,...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: große römische Ziffern (I,II,III,IV,V,...)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: kleine römische Ziffern (i,ii,iii,iv,v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Nummerierte Lis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40480" y="1895400"/>
            <a:ext cx="32896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ol start="W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2160" y="2971800"/>
            <a:ext cx="505908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as start-Atrribut legt den Startwert der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nummerierten Liste f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0560" y="4114800"/>
            <a:ext cx="4676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Z.B. beginnt &lt;ol start="6" type="I"&gt;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t dem Startwert VI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4.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362320" y="198072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stelle die im Browser gezeigte Aufzählu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Ändere die Typen in alle möglichen Varianten ab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Lasse die Liste mit der römischen Zahl XIV beginn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330" name="NEW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331" name="netscapelogo" descr=""/>
          <p:cNvPicPr/>
          <p:nvPr/>
        </p:nvPicPr>
        <p:blipFill>
          <a:blip r:embed="rId2"/>
          <a:stretch/>
        </p:blipFill>
        <p:spPr>
          <a:xfrm>
            <a:off x="1523880" y="5791320"/>
            <a:ext cx="7048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undgerüst HTML-Date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65960" y="2048040"/>
            <a:ext cx="146088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120" y="2971800"/>
            <a:ext cx="418716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er HTML-Tag umschließt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en Text des HTML-Dokuments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ls Ganz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5: Grafik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Einbinden von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039400" y="1895400"/>
            <a:ext cx="4935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 der Grafik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3160" y="2819520"/>
            <a:ext cx="29786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Bindet eine Grafik 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1880" y="3962520"/>
            <a:ext cx="435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r img-Tag hat keinen End-Ta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00800" y="4800600"/>
            <a:ext cx="671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ofern keine vollständige URL angegeben wird, wird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Grafikdatei im gleichen Verzeichnis erwartet wi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HTML-Dat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Einbinden von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39760" y="1895400"/>
            <a:ext cx="4386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flasche.jpg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74960" y="2666880"/>
            <a:ext cx="5250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Ein Beispiel zum Einbinden einer Graf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343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103720" y="5943600"/>
            <a:ext cx="371808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© der Grafiken Herdt Ver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Einbinden von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39760" y="1895400"/>
            <a:ext cx="4386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flasche.jpg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71000" y="2666880"/>
            <a:ext cx="699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Fehlt die Grafikdatei, wird ein Fehlerzeichen angezei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349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lternativtext bei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39400" y="1895400"/>
            <a:ext cx="4935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" alt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0880" y="2666880"/>
            <a:ext cx="592308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er Alternativtext wird angezeigt, wenn die 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Grafikanzeige ausgeschaltet ist oder die Grafik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nicht angezeigt wer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354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ößenangaben bei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38680" y="1895400"/>
            <a:ext cx="54842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" height="Wert" 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width="W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00080" y="3048120"/>
            <a:ext cx="656172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ie Werte height und width geben die Höhe und di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Breite der Grafik in Pixel 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359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902240" y="4267080"/>
            <a:ext cx="6705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t diesen Angaben kann der Browser HTML-Seiten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.d.R. schneller la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Rahmen bei Grafik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38680" y="1895400"/>
            <a:ext cx="5484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" border="W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98280" y="3048120"/>
            <a:ext cx="685296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Es wird ein Rahmen in der entsprechenden Pixelstärk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um das Bild gezo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365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afik und Beschriftu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37960" y="1895400"/>
            <a:ext cx="6581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" align="Ausrichtung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97920" y="3048120"/>
            <a:ext cx="611820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Mit dem align-Attribut wird die Ausrichtung der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Grafik zum nachfolgenden Text bestimm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370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648320" y="4800600"/>
            <a:ext cx="3962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top: am oberen Bild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ddle: in der Bildm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bottom: am unteren Bild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afik und Beschriftu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96600" y="1981080"/>
            <a:ext cx="745920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t align=texttop richten Sie den Beschriftungstext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obenbündig zur Grafik aus, und zwar an der Oberkante des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kleinsten folgenden Textes (texttop = oben am Tex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t align=absmiddle richten Sie den Beschriftungstext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bsolut mittig zur Grafik aus, auch bei unterschiedlichen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Textgrößen (absmiddle = absolute middle = in jedem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Fall mitti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it align=absbottom richten Sie den Beschriftungstext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ntenbündig zur Grafik aus, und zwar an der Unterkante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s kleinsten folgenden Textes (absbottom = absolut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bottom = in jedem Fall untenbündi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26720" y="6335640"/>
            <a:ext cx="240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us: Selfhtml von Stefan Mün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afik und Abstän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37960" y="1895400"/>
            <a:ext cx="62157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img src="URL" hspace="Wert" 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vspace="Wert" align="left|righ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95760" y="3048120"/>
            <a:ext cx="54752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Plaziert die Grafik mit umfließendem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NEW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379" name="netscapelogo" descr=""/>
          <p:cNvPicPr/>
          <p:nvPr/>
        </p:nvPicPr>
        <p:blipFill>
          <a:blip r:embed="rId2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896120" y="3809880"/>
            <a:ext cx="68313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hspace- und vspace-Attribute bestimmen hierbei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n Abstand der Grafik vom Text.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s align-Attribut bestimmt, ob die Grafik rechts oder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links vom Text ste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undgerüst HTML-Date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960" y="2048040"/>
            <a:ext cx="146088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3360" y="5791320"/>
            <a:ext cx="459576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Jedes HTML-Dokument besteht aus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zwei Tei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8000" y="236232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Kopfbereich (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8000" y="4648320"/>
            <a:ext cx="30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Körperbereich (BOD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438280"/>
            <a:ext cx="54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3300"/>
                </a:solidFill>
                <a:latin typeface="Times New Roman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885840" y="2590920"/>
            <a:ext cx="10666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380988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3300"/>
                </a:solidFill>
                <a:latin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038120" y="4571640"/>
            <a:ext cx="76212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afikform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524200" y="1981080"/>
            <a:ext cx="3009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GIF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JPG (JPEG)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66"/>
                </a:solidFill>
                <a:latin typeface="Times New Roman"/>
              </a:rPr>
              <a:t>PNG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1981080"/>
            <a:ext cx="2438280" cy="2654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In HTML-Dateien sind nur drei Grafikformate erlaubt. Das dritte sogar erst seit der 4er-Generation der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23760" y="4952880"/>
            <a:ext cx="6817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er Internet-Explorer zeigt jedes in den Registrierung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angemeldete Grafikformat an (z.B. BMP), obwohl das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keine Internet-Standards sin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5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781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stelle eine HTML-Datei mit einem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teckbrief von dir und deinem</a:t>
            </a:r>
            <a:br>
              <a:rPr sz="3200"/>
            </a:b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Nachbar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Die Bilder werden mit der Digitalkamera aufgenomm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6: Hyper-Link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rverweis setz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522080" y="1828800"/>
            <a:ext cx="456984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URL des Ziels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Hyperlinkstext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37440" y="3200400"/>
            <a:ext cx="476784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t einen Hyper-Link mit dem Text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uf die URL des Zi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77120" y="4572000"/>
            <a:ext cx="6714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Sofern keine vollständige URL angegeben wird, wird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s Ziel im gleichen Verzeichnis erwartet wi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HTML-Datei, die es aufruft. Es können absolut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nd relative Pfade als URL gesetz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6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Verlinke die beiden Steckbrief-Dateien miteinander, so dass sie sich gegenseitig aufruf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Zielfens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824480" y="1981080"/>
            <a:ext cx="71301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URL" target="Fenster"&gt;...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47680" y="4114800"/>
            <a:ext cx="67842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Mögliche Werte: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"name": neues Fenster mit dem Namen nam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"_blank": öffnet ein neues unbenanntes Fenster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"_parent": Anzeige im übergeordneten Fenster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"_top": Anzeige ersetzt komplett den Browserinh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"_self": Anzeige im gleichen Fenster (Voreinstellu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96480" y="2743200"/>
            <a:ext cx="616248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as target-Attribut bestimmt das Fenster, in dem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ie Zieldatei angezeigt wi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nk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7000" y="1981080"/>
            <a:ext cx="4204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name="Ankername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Text des Sprungziels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63840" y="3581280"/>
            <a:ext cx="378504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efinieren eines Sprungzi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57800" y="4943520"/>
            <a:ext cx="5301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name="kap1"&gt;Kapitel 1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uf Anker verweis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825560" y="1981080"/>
            <a:ext cx="5850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URL#Ankername"&gt;...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97880" y="3505320"/>
            <a:ext cx="503784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nspringen des Ankes in einer fremden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URL oder innerhalb der gleichen Dat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19560" y="4952880"/>
            <a:ext cx="74959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#kap1"&gt;Zu Kapitel 1&lt;/a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test.htm#kap1"&gt;Zu Kapitel 1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6280" y="2666880"/>
            <a:ext cx="5301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#Ankername"&gt;...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6.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etze einen Anker beim zweiten Wort des zweiten Absatzes des Zauberlehrling-Textes und verweise darauf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Verweis auf EMail-Adres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26640" y="1981080"/>
            <a:ext cx="4752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mailto:Adresse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Hyperlinktext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92480" y="3505320"/>
            <a:ext cx="535608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Verweist auf die EMail-Adresse, so dass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utomatisch der Mail-Client geöffnet wird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mit dieser Mailadre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1000" y="4952880"/>
            <a:ext cx="5850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mailto:micky@maus.de"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aile an Mick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undgerüst HTML-Date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65240" y="2048040"/>
            <a:ext cx="200952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IT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TIT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2040" y="1905120"/>
            <a:ext cx="469332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Im Kopfbereich steht mindestens der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TITLE-Eintr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48720" y="3394080"/>
            <a:ext cx="4114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ie Anzeige erfolgt im Browser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in der Titelzeile anstelle des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teinam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Optionen für EMai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74920" y="1981080"/>
            <a:ext cx="766908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mailto:Adresse?subject=Betreff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Hyperlinktext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90680" y="3505320"/>
            <a:ext cx="49248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t die Betreffzeile im EMail-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25920" y="4648320"/>
            <a:ext cx="5484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mailto:micky@maus.d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?subject=Fan-Post"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aile an Micky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Optionen für EMai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74920" y="1981080"/>
            <a:ext cx="76690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mailto:Adresse?cc=Adresse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Hyperlinktext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93200" y="3505320"/>
            <a:ext cx="497376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t eine cc-Adresse im EMail-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5920" y="4648320"/>
            <a:ext cx="56671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mailto:micky@maus.d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?cc=donald@duck.com"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Maile an Micky &amp;amp; an Donald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6.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gänze die Steckbriefe um Links zu dem jeweiligen Mailadress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Grafik als Hyper-Lin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26640" y="1981080"/>
            <a:ext cx="456984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a href="URL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&lt;img src="Linkgrafik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91400" y="3505320"/>
            <a:ext cx="5601600" cy="459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t einen Grafik-Link statt einem Text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19560" y="4952880"/>
            <a:ext cx="73130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a href="test.htm"&gt;&lt;img src="test.gif"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6.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Benutze eine verkleinerte Darstellung des Bildes (60x60 Pixel) als Link zur anderen Steckbrief-Datei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Weitere Linkfarben änder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825560" y="1976400"/>
            <a:ext cx="6384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body vlink="Farbe</a:t>
            </a:r>
            <a:r>
              <a:rPr b="1" lang="de-DE" sz="2400" spc="-1" strike="noStrike">
                <a:solidFill>
                  <a:srgbClr val="ffff66"/>
                </a:solidFill>
                <a:latin typeface="Times New Roman"/>
              </a:rPr>
              <a:t>"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alink="Farb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32880" y="3200400"/>
            <a:ext cx="586080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etzt die Farbe besuchter Links und die Farbe 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ktiver Links für das Dokument ne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978560" y="4948200"/>
            <a:ext cx="6188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body bgcolor=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link="red"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vlink="fuchsia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alink="yellow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6.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Verändere die Farben des HTML-Dokuments einschl. der Linkfarbe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ie Ergebnisse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80720" y="220932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HTML-Grundlag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Kapitel 7: Tabelle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abell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99720" y="2362320"/>
            <a:ext cx="674172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Tabellen mit allen Attribut-Möglichkeiten direkt im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HTML-Code setzen zu wollen, ist ein sehr mühsames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nterfangen. Am besten bedient man sich hierbei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tatsächlich eines grafischen Ed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Daher soll in diesem Kapitel nur auf die prinzipielle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HTML-Codierung von Tabellen eingegangen werden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und nicht jede Feinheit durchleuchte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abel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1000" y="1828800"/>
            <a:ext cx="5850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able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Definition der Tabellenzeilen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34920" y="3200400"/>
            <a:ext cx="522360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er &lt;table&gt;-Tag umschließt eine Tabell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ls Ganz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972800" y="4572000"/>
            <a:ext cx="6090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Nur eine Definition ohne weitere Tabellenzeilen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Times New Roman"/>
              </a:rPr>
              <a:t>ergibt keine vernünftige HTML-Tabel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ufgabe 1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63800" y="2048040"/>
            <a:ext cx="4021200" cy="33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IT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Ein erstes Dok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TIT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0040" y="4114800"/>
            <a:ext cx="419652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Erstelle ein entsprechendes 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HTML-Dokument uebung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chaue es dir im Browser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NE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867280"/>
            <a:ext cx="762120" cy="730440"/>
          </a:xfrm>
          <a:prstGeom prst="rect">
            <a:avLst/>
          </a:prstGeom>
          <a:ln w="0">
            <a:noFill/>
          </a:ln>
        </p:spPr>
      </p:pic>
      <p:pic>
        <p:nvPicPr>
          <p:cNvPr id="128" name="netscapelogo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5867280"/>
            <a:ext cx="7048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abellenrahm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827360" y="1981080"/>
            <a:ext cx="4021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able border="Wert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93560" y="3505320"/>
            <a:ext cx="585900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Festlegung eines Rahmens um die Tabelle.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Mit border="0" wird kein Rahmen gezeich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1000" y="4952880"/>
            <a:ext cx="5484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table border="3"&gt;...&lt;/table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table border="0"&gt;...&lt;/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abellenbrei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27360" y="1981080"/>
            <a:ext cx="38383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able width="Wert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96800" y="3505320"/>
            <a:ext cx="4530240" cy="825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Festlegung der Tabellenbreite.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ie kann in % oder Pixeln erfol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1000" y="4952880"/>
            <a:ext cx="566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table width="50%"&gt;...&lt;/table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table width="200"&gt;...&lt;/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abellenzeil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27360" y="1981080"/>
            <a:ext cx="402120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able border="Wert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r&gt;...&lt;/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r&gt;...&lt;/tr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63520" y="4114800"/>
            <a:ext cx="5918760" cy="155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Mit dem &lt;tr&gt;-Tag werden innerhalb eines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&lt;table&gt;-Tags die einzelnen Zeilen der Tabell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beschrieben. Pro &lt;tr&gt; enthält die Tabelle i.d.R.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eine Ze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abellenzell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27360" y="1981080"/>
            <a:ext cx="4021200" cy="265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able border="Wert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&lt;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d&gt;...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d&gt;...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04880" y="4952880"/>
            <a:ext cx="5953680" cy="155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Mit dem &lt;td&gt;-Tag werden innerhalb eines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&lt;tr&gt;-Tags die einzelnen Zellen der Tabell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beschrieben. Pro &lt;td&gt; enthält die Tabellenzeil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i.d.R. eine Spal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Die kleinste Tabel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29760" y="2438280"/>
            <a:ext cx="658152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Dies ist die kleinste 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Aufbau der Tabel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617840" y="2139840"/>
          <a:ext cx="7372080" cy="404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7840" y="2139840"/>
                    <a:ext cx="737208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Leere Tabellenzell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28080" y="1981080"/>
            <a:ext cx="2923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d&gt;&amp;nbsp;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62440" y="4114800"/>
            <a:ext cx="5940000" cy="155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oll eine Tabellenzelle leer bleiben, dann muss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ort ein geschütztes Leerzeichen mit &amp;nbsp;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hingeschrieben werden, ansonsten wird di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Tabelle fehlerhaft dargestel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erschriftzell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1981080"/>
            <a:ext cx="2375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h&gt;...&lt;/t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63160" y="4114800"/>
            <a:ext cx="5662440" cy="11912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Mit dem &lt;th&gt;- statt dem &lt;td&gt;-Tag kann eine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Zelle zur Überschriftszelle gemacht werden.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ie erscheint dann i.d.R. fett und zentr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Übung 7.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905120" y="1905120"/>
            <a:ext cx="67816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Erstelle folgende Tabell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66"/>
                </a:solidFill>
                <a:latin typeface="Times New Roman"/>
              </a:rPr>
              <a:t>Schaue dir das Ergebnis im Browser a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2057400" y="3809880"/>
          <a:ext cx="6235560" cy="212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809880"/>
                    <a:ext cx="623556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paltenbrei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828080" y="1981080"/>
            <a:ext cx="32896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td width="Wert"&gt;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...</a:t>
            </a:r>
            <a:br>
              <a:rPr sz="2400"/>
            </a:br>
            <a:r>
              <a:rPr b="1" lang="de-DE" sz="2400" spc="-1" strike="noStrike">
                <a:solidFill>
                  <a:srgbClr val="ffff66"/>
                </a:solidFill>
                <a:latin typeface="Courier New"/>
              </a:rPr>
              <a:t>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91760" y="3505320"/>
            <a:ext cx="5397480" cy="155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Festlegung der Spaltenbreite.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Sie kann in % oder Pixeln erfol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Alle untereinanderliegenden Zellen sollten</a:t>
            </a:r>
            <a:br>
              <a:rPr sz="2400"/>
            </a:br>
            <a:r>
              <a:rPr b="0" lang="de-DE" sz="2400" spc="-1" strike="noStrike">
                <a:solidFill>
                  <a:srgbClr val="66ff66"/>
                </a:solidFill>
                <a:latin typeface="Times New Roman"/>
              </a:rPr>
              <a:t>die gleiche Angabe hab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74360" y="5410080"/>
            <a:ext cx="4569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td width="50%"&gt;...&lt;/td&gt;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Courier New"/>
              </a:rPr>
              <a:t>&lt;td width="200"&gt;...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NEW" descr=""/>
          <p:cNvPicPr/>
          <p:nvPr/>
        </p:nvPicPr>
        <p:blipFill>
          <a:blip r:embed="rId1"/>
          <a:stretch/>
        </p:blipFill>
        <p:spPr>
          <a:xfrm>
            <a:off x="6858000" y="5486400"/>
            <a:ext cx="762120" cy="730080"/>
          </a:xfrm>
          <a:prstGeom prst="rect">
            <a:avLst/>
          </a:prstGeom>
          <a:ln w="0">
            <a:noFill/>
          </a:ln>
        </p:spPr>
      </p:pic>
      <p:pic>
        <p:nvPicPr>
          <p:cNvPr id="478" name="netscapelogo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7048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7:42:46Z</dcterms:created>
  <dc:creator>Ralph-Erich Hildebrandt</dc:creator>
  <dc:description/>
  <dc:language>en-US</dc:language>
  <cp:lastModifiedBy>Ralph-Erich Hildebrandt</cp:lastModifiedBy>
  <dcterms:modified xsi:type="dcterms:W3CDTF">2006-05-04T07:14:18Z</dcterms:modified>
  <cp:revision>137</cp:revision>
  <dc:subject/>
  <dc:title>HTML-Grundlagen</dc:title>
</cp:coreProperties>
</file>